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D7E3-3078-4AE4-A485-743E4A82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79640" y="4374000"/>
            <a:ext cx="7773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0CE0-A92A-4532-886C-B9935AEB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79640" y="4374000"/>
            <a:ext cx="379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63040" y="4374000"/>
            <a:ext cx="379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2003-681A-4F85-8F13-32F2FA22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2503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768320"/>
            <a:ext cx="2503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6720" y="1768320"/>
            <a:ext cx="2503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79640" y="4374000"/>
            <a:ext cx="2503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8360" y="4374000"/>
            <a:ext cx="2503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6720" y="4374000"/>
            <a:ext cx="2503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4CE2-B332-44AE-AF0A-889E6829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8BEA-3349-4044-BE8D-C3C05C03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79640" y="1768320"/>
            <a:ext cx="7773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0197-825D-4217-92B6-A7CF1823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E751-F6A0-428B-B36D-9DDBDB16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B008-594A-4B72-A6B8-F33BEA8A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51C7-3E2F-48A3-BD8D-80248155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34920" y="301320"/>
            <a:ext cx="61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3382-C41D-4E7A-82DD-30E40765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79640" y="4374000"/>
            <a:ext cx="379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BE14-C399-4249-B6E1-D6B0697C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79640" y="1768320"/>
            <a:ext cx="7773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AA31-D63B-4DE6-B5FB-BE996535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63040" y="4374000"/>
            <a:ext cx="379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F30C-4C56-4C31-941B-3E54E132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79640" y="4374000"/>
            <a:ext cx="7773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9C6D-69F6-4086-ABF2-5445B67B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79640" y="4374000"/>
            <a:ext cx="7773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B930-ED3C-43FE-970A-B1B4B874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79640" y="4374000"/>
            <a:ext cx="379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63040" y="4374000"/>
            <a:ext cx="379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5D05-B8BC-4DDE-AEC4-68999397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2503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8360" y="1768320"/>
            <a:ext cx="2503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6720" y="1768320"/>
            <a:ext cx="2503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79640" y="4374000"/>
            <a:ext cx="2503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8360" y="4374000"/>
            <a:ext cx="2503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6720" y="4374000"/>
            <a:ext cx="2503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56DE-BE9F-469C-A708-92A0475E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ACBF-E38C-4CD8-B5BF-D012AAF7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6981-198C-4D07-8F55-96C63DC4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C07-6FC1-41D1-8679-F6A6561C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4920" y="301320"/>
            <a:ext cx="61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F743-5AA2-4304-8F3C-C440B145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79640" y="4374000"/>
            <a:ext cx="379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082-B0BB-4C10-A2F0-C9B9B10D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63040" y="4374000"/>
            <a:ext cx="379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335E-4901-441B-A4C6-4E525BD3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79640" y="4374000"/>
            <a:ext cx="7773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73BF-B749-43FC-849A-44AAC208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1C46A-D94D-4AF8-AA9D-A914907A5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79640" y="1768320"/>
            <a:ext cx="7773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763640" y="60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203720" y="670716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15000" y="67071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3CBFE-3F05-459C-94D4-249C5E24F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udy-area.org/goldencat/linux-mini-howto/index.html#toc1" TargetMode="External"/><Relationship Id="rId3" Type="http://schemas.openxmlformats.org/officeDocument/2006/relationships/hyperlink" Target="http://netlab.kh.edu.tw/document/" TargetMode="External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omputerdiy.com.tw/all-articles/articles-hard-drive/1596-hd-3tb" TargetMode="External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網路管理分享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79280" y="1768320"/>
            <a:ext cx="777564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北投國小莊金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mediacenter</a:t>
            </a: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在會議室或視聽教室的應用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設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windows media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設備：觸控螢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設備：橫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設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無線鍵盤及滑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校園播放設備自動化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只有用軟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硬體加軟體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控制你的家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study-area.org/goldencat/linux-mini-howto/index.html#to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電腦與擴音器的相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netlab.kh.edu.tw/documen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eclife.com.tw/led/moreinfo_6221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79640" y="301680"/>
            <a:ext cx="78120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  <a:ea typeface="Arial Unicode MS"/>
              </a:rPr>
              <a:t>school</a:t>
            </a:r>
            <a:r>
              <a:rPr b="1" i="1" lang="en-US" sz="4400" spc="-1" strike="noStrike">
                <a:solidFill>
                  <a:srgbClr val="800000"/>
                </a:solidFill>
                <a:latin typeface="Arial"/>
                <a:ea typeface="Arial Unicode MS"/>
              </a:rPr>
              <a:t>行事曆模組非官方修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44720" y="1079640"/>
            <a:ext cx="7775640" cy="64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school--&gt;sched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的資料夾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admin_add_frm.ph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尋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20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進行修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index_iframe.ph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尋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1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進行修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google</a:t>
            </a: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相關應用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搜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郵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dropbox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雲端硬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處處都可與學校緊緊相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只要電腦有安裝就可以有你要處理的檔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只要有網路就可以隨時同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virtualbox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系統虛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舊軟體重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伺服器分工更加便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備份也很容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線上直播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電視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軟壓、硬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攝影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好的顯卡，足夠的記憶體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g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網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軟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Media en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be flash en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Upp</a:t>
            </a: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與</a:t>
            </a: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xpe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中毒時，使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c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進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碟中修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使用隨身碟內可攜式軟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t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以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tw.myblog.yahoo.com/noname-team/article?mid=120&amp;prev=122&amp;l=f&amp;fid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學習的網站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75640" cy="4907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狼主的實驗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酷學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資訊組長聯誼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教育噗浪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ile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摩托學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鳥哥的私房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自由軟體技術交流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4360" y="324000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簡報結束</a:t>
            </a:r>
            <a:br>
              <a:rPr sz="4400"/>
            </a:b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謝謝</a:t>
            </a: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!!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感謝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感謝各位給我機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感謝曾經幫過我的老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感謝在各位前輩的面前有機會獻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如果可以也可以隨時糾正我指正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大綱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談網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網管老師的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當網管老師兼任行政或導師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結構化佈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硬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雷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閃爍的燈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行事曆模組非官方修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學習的網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網管老師的工作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網路順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網頁更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一般及互動式網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電腦教室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化教室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行政用電腦及資訊設備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班級電腦資訊設備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其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水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只要有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cckai.blogspot.com/2010/12/stp.html#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兼任行政或是兼任導師時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23640" y="1800000"/>
            <a:ext cx="7775640" cy="64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行政業務與資訊業務優先順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班級事務與資訊業務優先順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網管老師與資訊組長的定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結構化佈線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有錢一定要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沒有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....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做不做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資訊插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還有線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19280" y="3808440"/>
            <a:ext cx="2020680" cy="2851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140360" y="3780000"/>
            <a:ext cx="1979280" cy="2879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60520" y="6840360"/>
            <a:ext cx="80787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相片資料來源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igitimes.com.tw/tw/dt/n/shwnws.asp?CnlID=13&amp;id=0000237868_EZX9B4RX5QYBJC95YWG7S&amp;ct=1&amp;OneNewsPage=2&amp;Page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020000" y="3780000"/>
            <a:ext cx="1800000" cy="3089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0" y="2879640"/>
            <a:ext cx="4140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問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硬碟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00360" y="1810800"/>
            <a:ext cx="7818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T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時會如何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的命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硬碟廠商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T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內接式硬碟的使用解決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computerdiy.com.tw/all-articles/articles-hard-drive/1596-hd-3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雷擊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00360" y="1420920"/>
            <a:ext cx="77752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s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穩壓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若是網路孔壞掉代表雷擊打掛網路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網路雷擊保護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才有作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若是電源被雷擊打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應該是買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電源突波保護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的設備才有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4:14:40Z</dcterms:created>
  <dc:creator/>
  <dc:description/>
  <dc:language>en-US</dc:language>
  <cp:lastModifiedBy/>
  <dcterms:modified xsi:type="dcterms:W3CDTF">2011-10-19T13:36:39Z</dcterms:modified>
  <cp:revision>18</cp:revision>
  <dc:subject/>
  <dc:title/>
</cp:coreProperties>
</file>