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A91-9F50-4180-82EE-A67DFA9C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630-2FF7-474B-BEBB-44B7D61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9D774-10F3-4645-8E50-D17C2C7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CBF6B-7A0C-4AA9-ABB4-88538DBE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2FEEE8-A95E-45E4-A7A2-A5EE9D8B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B9F66-A025-417E-A226-14B2366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AB795-F7F9-4DC8-BDF3-4BD0454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FAEB72-3EBA-4EA5-8550-9184738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8AAC5-4535-4594-B67C-2AF7957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25EC4-8B20-4E0E-90D9-2B7EC324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2D35C-19A0-4A82-8594-FDF5E868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6902-1FDB-481F-A7BC-3F5EC965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D8D-1A10-4471-B881-D02C03CD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78462-A1E1-46C5-9BEA-B689860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1E575-BFBC-4666-8E6E-85059AB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C93D3-C2FC-4AFB-8867-632EDEAB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17D7B-5B53-4FA9-BDEF-CDEE558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9A55A-54DF-4C76-BD41-E36306E3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F25FB-DF58-409A-A94A-ED9497A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2AECC-7910-47C6-B459-8EE7F35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AC77-ABC7-46E4-A163-FFF2539C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4E921-8C19-4346-9815-B204E473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77C6C-8174-4EE7-A517-BB25A445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9BE-56D8-4161-81AD-F8BAAAB6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B2FB8-BA9D-4786-8C5C-A0079A06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432D1-F48C-4FF0-A55F-A7AA4FAD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4E2A1-6929-4474-A765-A31AF90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1EC6-388B-4952-A79C-CEACF90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5961-E2F6-43A2-AA17-D21593D0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D510D-498E-4553-A035-9756E7B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311D2-B439-4D73-BCDC-37E0AF9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F6C7-3A19-45E8-82BB-6642E3B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A2528-5710-490E-B301-5F6C50A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B4A40-5611-48F8-9757-786BDDF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1265A-6BF0-4A35-BB49-8EE5A5A8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3183A-7CC1-4C72-8531-EA020A1C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4959-25DC-4E08-9335-0ADE87CE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64E58-197D-4B01-A561-32AC5EDE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E62F3-F983-4B3C-972C-2EB426ED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D0117-50E5-4153-8196-E0003BB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CCA73-9109-4264-8C8B-711C1FDD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77101-268D-439B-BC89-7969007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A2314-92A1-4DAB-B157-8017340A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2FE28-B436-4CA9-806E-F76AC2B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C896-8C25-4AFF-88D4-0056AD71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3D779-CF45-44D2-B8D0-EBC44F4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A7547-0A4E-4EC8-A704-490FBE4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6AAB4-620B-4DE5-B3CB-335061D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F9B4F-E0AF-4F52-8B52-FA9933F3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A7779-2049-4B5B-9830-4D3C0D6B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09BDD-91F1-475C-8526-EABA9457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C8648-7B1B-439D-8565-8E9D1F8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0AC9A-2E34-48F4-9095-451F5B85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D3338-26E5-47AC-9E18-7D9FA57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E1F79-BFDB-48A7-A93B-82328833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59542-D596-484E-8D8E-A5A57F5B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305A5-8B03-474D-A32C-0B33F4B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8DC09-4851-4E39-91AA-77527EA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788B4-9745-4A80-A951-E1717F6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07A66-10AF-4D1B-816F-700DBDA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46CD8-4A1A-4C2D-87F3-BC7DCC05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84E92-CAA5-4D87-B691-31715869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C26C7-8EB4-46D2-9075-E0C67FF2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6D28B-C82F-40C3-9300-86A331A8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E3329-BE27-45D5-B98B-A167378F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8CAB-3AFA-4EC5-8A7C-8CD0FBBE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459B5-43D3-4A31-8BB6-E6E1737F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7B57A-8361-45F1-84EF-888413B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C11-DBC8-42C1-AFC6-D753CB6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5C4C-2FFB-42F5-8E57-C6C6F98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BA52B-6222-4B29-98BB-2AA08FB5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8A885-F589-411A-ADF2-5B43A848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7FE4A-D132-4B16-B69D-4DE45A4A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ED7F-C278-45C6-BC15-CED41A7A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4B14E-AB95-470B-AE51-1015838C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ED510-95AA-4E44-8583-F9D19E9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9B1CC-35A9-4F56-A98E-392A3798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C7F26-8683-4699-9366-7F8C021E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C69E3-D611-4587-A230-B4A90970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6F1-582D-4C4C-9199-8BB074D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B5AE8-41D1-44C6-AC3D-A3E34BEC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5390C-5980-457A-8464-C7ED0FF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BCDB2-C272-4C5F-ADCB-49D3047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A7E26-CC4B-4902-8393-F40C64C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F7EA9-8831-4E1A-903A-67606A48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AE125-82C4-4F00-B261-7425FDF4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08B19-4BAE-43A1-8D3E-A36A7F2C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514BE-A08E-4915-BA20-C8B3D5B4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5E401-6172-4700-AD26-6C955F5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7D1B8-C8E8-4EC7-9578-138640AF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419-09BE-420B-9CD9-79364D89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734FB-CB43-4484-8BE3-7934869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163BC-0355-4EF4-B638-F4A23305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A18B0-2735-43B9-B27F-7E72F27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4F135-8740-45EE-873A-7896708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95358-4580-4A43-812B-A2F0B6ED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F8E95-8FA9-417A-8258-149B50B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7B91A-DB57-4EC6-91DB-C067556B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3CCB4-94DE-45BE-A6FE-A30E9615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B466C-8971-4C64-BE08-A28DA79A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09A92-591C-48CD-BD05-94B75170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C2B-C1F1-4354-9597-AA31362C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DB082-7547-4710-8511-114FDBE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1BE20-6A39-49C0-817B-217A8486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A224E-84EF-476B-9058-C78D6030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4D5AC-C11C-4891-8946-0FDC4926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9BA60-13DF-4DAA-898B-3EB87AE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03DCA-1296-42E8-AFCD-21E33B5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C1351-CC85-4889-85A3-A0812E0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0B592-F6EF-4BD6-B9CD-8442AA5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F7299-09AF-480C-BA5B-3AC4C956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32FA2-3C43-48D4-B74D-E3B2CA6E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142-0219-4765-AE4C-174075F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ECD4D-B4D9-47EE-924B-E48892C7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C62C1-6622-4409-A0C0-77598F3B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AA55C-198A-48BB-B152-D48DF16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50130-B97F-4EFB-ACA4-0DEFDC8E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434B3-043E-4A19-AFA7-6B44FDD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AEC7A-B214-4B3E-8FE5-3AC9329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DFCD6-57CF-4FA4-9335-928D0B0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9C093-8853-44B7-8E9F-E6408A1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BCCC1-909B-4EE4-9DDA-F89E71E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90F42-8463-437F-829A-443FF9D4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583-3423-4D2F-905C-AA4C79B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1FBCE-6E31-4A7B-9BCB-B2128A6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50C03-8A90-4F63-AD1C-B4298D3A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6B20B-7B57-4D6F-8FC6-E87865FC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C7603-28D2-4ED5-B6B2-5985B07F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A5455-CEF0-4FD2-BC8D-C2C3E35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EC6FA-CFF9-41E1-804A-EC7AD7B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146CF-5A0B-4863-BED3-F15FA1B3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17FD8-666D-4E40-A2F7-7BD2E55B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7B0D4-D367-4580-8043-9C8A2B5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0BB82-874E-4993-9834-E8061BB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9B9-6998-4613-B76B-00EBB22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492E2-F1DD-4B02-A95D-40FB182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C9B86-412D-477C-9391-1E7B57F7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251ED-71C4-445A-89FB-FDCD8F3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0E112-7C91-4B95-9F21-1C563D22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97C83-7951-431C-A532-9775020F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6CDFF-8956-4F5B-924A-BE884E6B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199C05-E9DE-4B69-B539-F61149A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7948D-499D-4270-88F0-C3622593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51810-A973-4BAB-9C5D-6010F75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51B83-E87E-4B9F-B5FD-5FD898E6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610-7198-489C-9E95-B38034DF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6F034-408E-4EEE-BC07-F9E66591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C6385E-2995-4152-B788-CDE29C6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2147B-CB7F-4E3F-A2C4-88D3B3C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622B8-C84A-4449-B565-6B59D0E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F6334-E872-4A87-BBD9-631D7A14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6A3F9-739F-45DB-98EC-73165CD9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C58BC-4FD1-413D-8559-4ED44C0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160CD1-BC3B-4B92-9A3B-40F840C2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5CF69-DEF8-48A8-BEEC-DD12BEE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351B1B-1C61-40F8-B47D-FE51542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3E38-3BF0-44C9-8D0A-469BFB923DCC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1EB4-902D-440A-9AF8-36C0965AE1B5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AE4D-DF12-4519-A881-3FE0BFCFB9F3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955E-8BD8-4F39-8DE0-16937C9C3CC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3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9AE-ED23-49FF-9824-EF775957606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683-C4BB-4B7A-BA3D-6841F9F81022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35E-8B4B-4BFC-8CD6-BDE1CD1CF58E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68D1-D5FF-4A8B-8D7D-9008BCB91756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E43E-8B1F-45B6-857E-2001A128DCB6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30CB-4C96-4A98-87E1-95201214D25D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C5F-C300-425F-AAD7-1113140BF8CB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821-3AF7-4BB3-9819-74CBBAF37E7A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F22-DE2E-4C9D-A8B6-031315BC40C6}" type="slidenum">
              <a:rPr b="1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tie.ntct.edu.tw/" TargetMode="External"/><Relationship Id="rId2" Type="http://schemas.openxmlformats.org/officeDocument/2006/relationships/hyperlink" Target="http://ntie.ntct.edu.tw/" TargetMode="External"/><Relationship Id="rId3" Type="http://schemas.openxmlformats.org/officeDocument/2006/relationships/hyperlink" Target="http://ntie.ntct.edu.tw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cebook.com/encntc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995280" y="5229000"/>
            <a:ext cx="496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南投縣教育網路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.10.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74872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200" spc="-1" strike="noStrike">
                <a:solidFill>
                  <a:srgbClr val="0033cc"/>
                </a:solidFill>
                <a:latin typeface="Garamond"/>
              </a:rPr>
              <a:t>工作報告</a:t>
            </a:r>
            <a:br>
              <a:rPr sz="5700"/>
            </a:br>
            <a:br>
              <a:rPr sz="5700"/>
            </a:br>
            <a:r>
              <a:rPr b="1" lang="en-US" sz="3400" spc="-1" strike="noStrike">
                <a:solidFill>
                  <a:srgbClr val="0033cc"/>
                </a:solidFill>
                <a:latin typeface="Garamond"/>
              </a:rPr>
              <a:t>100</a:t>
            </a:r>
            <a:r>
              <a:rPr b="1" lang="zh-TW" sz="3400" spc="-1" strike="noStrike">
                <a:solidFill>
                  <a:srgbClr val="0033cc"/>
                </a:solidFill>
                <a:latin typeface="Garamond"/>
              </a:rPr>
              <a:t>學年度第一學期網管人員研討會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6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500" spc="-1" strike="noStrike">
                <a:solidFill>
                  <a:srgbClr val="ffffff"/>
                </a:solidFill>
                <a:latin typeface="Corbel"/>
              </a:rPr>
              <a:t>報告完畢</a:t>
            </a:r>
            <a:endParaRPr b="0" lang="en-US" sz="1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2771280" y="4652640"/>
            <a:ext cx="63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南投縣教育網路中心 王登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1.10.25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溪頭明山森林會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標題 1" descr=""/>
          <p:cNvPicPr/>
          <p:nvPr/>
        </p:nvPicPr>
        <p:blipFill>
          <a:blip r:embed="rId1"/>
          <a:stretch/>
        </p:blipFill>
        <p:spPr>
          <a:xfrm>
            <a:off x="23760" y="835200"/>
            <a:ext cx="8053560" cy="283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52080" y="1463400"/>
            <a:ext cx="8396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　　目前網際網路上面所使用的網際網路協定為第四版，稱為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，其使用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32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個位元定址，定址能力為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32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次方，這樣的定址能力在網路發展剛起步時仍十分充裕，但面對現今與未來，家用與商用電腦甚至於一般設備皆使用網際網路的情況來說，網際網路節點位址明顯不足，依據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APNIC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的網路專家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Geoff Huston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的預測，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位址將於西元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10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至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11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年時配發完畢，為了解決到時無位址可用的問題，國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??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組織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ETF(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網際網路工程小組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)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於是制定了第六版的網際網路協定就稱為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什麼是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52440" y="1463400"/>
            <a:ext cx="8323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1.IPv6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比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提供更多位址、在便利性、安全性及傳輸效能均有長足進步。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提供的位址數量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128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次方是個天文數字，有人說即使操場裡每粒沙子都給予一個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也用不完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具有自動設定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(Auto-Configuration)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機制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6 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增加了自動設定機制，能在毋須人為設定的情形下，自動賦予 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IPv6 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位址及相關設定值，依機器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MAC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產生唯一位址。例如：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01:288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的基本知識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2364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3.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保密性更佳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整合目前廣為使用的加密協定－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Sec (IP Security)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，不但資料內容加密並執行身份驗證。可以確保接收或傳送的封包未經竄改，亦非他人冒名傳送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4.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提升路由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(Routing)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效率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封包的表頭長度不固定；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則固定為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40 Bytes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個欄位。路由器在處理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的封包時速率較快，至少省略判斷檔頭長度的動作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5.IPv6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編址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從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到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最顯著的變化就是地址的長度。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只有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32bit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，而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有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28bit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，而這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28bit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，在很多場合，由兩個邏輯部分組成：一個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6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的網路前綴和一個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6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的主機地址，主機地址通常根據物理地址自動生成，叫做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EUI-6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的基本知識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52080" y="1463400"/>
            <a:ext cx="8683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6.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表示法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因為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長達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2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元，不適合用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進位表示，如果用十進位表示，會和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混淆。因此採用十六進位表示法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通常寫做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組每組四個十六進制的形式，以冒號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(:)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隔開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為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2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元長度，但通常寫做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組每組四個十六進制的形式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例如：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001:0db8:85a3:08d3:1319:8a2e:0370:7344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是一個合法的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如果位數都是零，可以被省略。 例如：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01:0db8:85a3:0000:1319:8a2e:0370:734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等同於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01:0db8:85a3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</a:rPr>
              <a:t>::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1319:8a2e:0370:7344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的基本知識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52080" y="1463400"/>
            <a:ext cx="8683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6.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表示法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因為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長達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2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元，不適合用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進位表示，如果用十進位表示，會和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混淆。因此採用十六進位表示法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通常寫做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組每組四個十六進制的形式，以冒號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(:)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隔開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為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2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元長度，但通常寫做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8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組每組四個十六進制的形式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例如：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001:0db8:85a3:08d3:1319:8a2e:0370:7344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是一個合法的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。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如果位數都是零，可以被省略。 例如：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01:0db8:85a3:0000:1319:8a2e:0370:734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等同於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2001:0db8:85a3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</a:rPr>
              <a:t>::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1319:8a2e:0370:7344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的基本知識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4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52440" y="1463400"/>
            <a:ext cx="854064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以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Ubuntu 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主機為例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,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通常已預設安裝好相關服務，進行以下設定即可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1./etc/network/interface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當中加入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iface eth1 inet6 static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address 2001:288:c2ac::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netmask 6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gateway 2001:288:c2ac::FFFF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2.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重新啟動網路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,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輸入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/etc/init.d/networking restar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　完成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Ubuntu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設定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之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94920" y="764640"/>
            <a:ext cx="8209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3.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再看看連外能力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ping6 2001:288:C200::FFFF (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縣網中心）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連外測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ping6 www.ipv6.hinet.n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4.Dns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測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host -t AAAA www.ipv6.hinet.n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5.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海龜測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請上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http://www.kame.net/ ,</a:t>
            </a:r>
            <a:r>
              <a:rPr b="0" lang="zh-TW" sz="2800" spc="-1" strike="noStrike">
                <a:solidFill>
                  <a:srgbClr val="ffffff"/>
                </a:solidFill>
                <a:latin typeface="微軟正黑體"/>
              </a:rPr>
              <a:t>看看海龜會不會動吧</a:t>
            </a:r>
            <a:r>
              <a:rPr b="0" lang="en-US" sz="2800" spc="-1" strike="noStrike">
                <a:solidFill>
                  <a:srgbClr val="ffffff"/>
                </a:solidFill>
                <a:latin typeface="微軟正黑體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52080" y="1125360"/>
            <a:ext cx="84675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要設定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Apache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支援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的話，設定很簡單， 以下是關鍵步驟：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微軟正黑體"/>
              </a:rPr>
              <a:t>一、</a:t>
            </a:r>
            <a:r>
              <a:rPr b="1" lang="en-US" sz="2400" spc="-1" strike="noStrike">
                <a:solidFill>
                  <a:srgbClr val="ffffff"/>
                </a:solidFill>
                <a:latin typeface="微軟正黑體"/>
              </a:rPr>
              <a:t>httpd.conf </a:t>
            </a:r>
            <a:r>
              <a:rPr b="1" lang="zh-TW" sz="2400" spc="-1" strike="noStrike">
                <a:solidFill>
                  <a:srgbClr val="ffffff"/>
                </a:solidFill>
                <a:latin typeface="微軟正黑體"/>
              </a:rPr>
              <a:t>監聽埠設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原本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v4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的全介面監聽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isten 80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和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v6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的介面監聽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[::]:80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如果要同時監聽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v4 + 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　，一定要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By IP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設定，不能再使用懶人法：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:80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或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[::]:8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例如我有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v4 2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個介面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+ v6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１個介面 則要設四條，注意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v6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一定要用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[ ]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框起： 以漳興國小為例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isten 127.0.0.1:8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isten 163.22.87.1:8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isten [2001:288:C2AC::1]:8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如果所有介面都要監聽，則只設定一條，其餘刪除：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isten 8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的網頁伺服器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Apache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設定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52080" y="1463400"/>
            <a:ext cx="818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8200" indent="-808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１．截至</a:t>
            </a:r>
            <a:r>
              <a:rPr b="0" lang="en-US" sz="3200" spc="-1" strike="noStrike">
                <a:solidFill>
                  <a:srgbClr val="ffffff"/>
                </a:solidFill>
                <a:latin typeface="微軟正黑體"/>
              </a:rPr>
              <a:t>2011.10.20</a:t>
            </a: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日止，本縣網路電話共</a:t>
            </a:r>
            <a:r>
              <a:rPr b="0" lang="en-US" sz="3200" spc="-1" strike="noStrike">
                <a:solidFill>
                  <a:srgbClr val="ffffff"/>
                </a:solidFill>
                <a:latin typeface="微軟正黑體"/>
              </a:rPr>
              <a:t>1849</a:t>
            </a: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門號碼，節費電話包含教育處６路、縣網中心、國中</a:t>
            </a:r>
            <a:r>
              <a:rPr b="0" lang="en-US" sz="3200" spc="-1" strike="noStrike">
                <a:solidFill>
                  <a:srgbClr val="ffffff"/>
                </a:solidFill>
                <a:latin typeface="微軟正黑體"/>
              </a:rPr>
              <a:t>26</a:t>
            </a: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所及國小</a:t>
            </a:r>
            <a:r>
              <a:rPr b="0" lang="en-US" sz="3200" spc="-1" strike="noStrike">
                <a:solidFill>
                  <a:srgbClr val="ffffff"/>
                </a:solidFill>
                <a:latin typeface="微軟正黑體"/>
              </a:rPr>
              <a:t>107</a:t>
            </a: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所，共計</a:t>
            </a:r>
            <a:r>
              <a:rPr b="0" lang="en-US" sz="3200" spc="-1" strike="noStrike">
                <a:solidFill>
                  <a:srgbClr val="ffffff"/>
                </a:solidFill>
                <a:latin typeface="微軟正黑體"/>
              </a:rPr>
              <a:t>140</a:t>
            </a: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門號碼。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808200" indent="-808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２．網路電話查號台已做更新，可查詢網路電話、</a:t>
            </a:r>
            <a:r>
              <a:rPr b="0" lang="en-US" sz="3200" spc="-1" strike="noStrike">
                <a:solidFill>
                  <a:srgbClr val="ffffff"/>
                </a:solidFill>
                <a:latin typeface="微軟正黑體"/>
              </a:rPr>
              <a:t>PSTN</a:t>
            </a: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電話及節費電話號碼，更可匯出，供學校套表使用。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808200" indent="-8082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微軟正黑體"/>
              </a:rPr>
              <a:t>查號台網址：</a:t>
            </a:r>
            <a:r>
              <a:rPr b="0" lang="en-US" sz="3600" spc="-1" strike="noStrike">
                <a:solidFill>
                  <a:srgbClr val="ffffff"/>
                </a:solidFill>
                <a:latin typeface="微軟正黑體"/>
              </a:rPr>
              <a:t>http://ntie.ntct.edu.tw/voip.aspx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808200" indent="-808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一、網路電話（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VOIP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52080" y="1267920"/>
            <a:ext cx="8467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nano /etc/bind/named.conf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在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options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區段內有些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Bind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版本需加入以下內容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isten-on-v6 { any; }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軟正黑體"/>
              </a:rPr>
              <a:t>DNS </a:t>
            </a:r>
            <a:r>
              <a:rPr b="1" lang="zh-TW" sz="2400" spc="-1" strike="noStrike">
                <a:solidFill>
                  <a:srgbClr val="ffffff"/>
                </a:solidFill>
                <a:latin typeface="微軟正黑體"/>
              </a:rPr>
              <a:t>正解檔設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v6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的寫法除了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IP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位址不同外，另一差別只是將「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A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」改成「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AAAA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」，加上兩列關於這兩部主機新的設定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dns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        IN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63.22.87.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dns             IN      AAAA    2001:288:xxxx::1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www           IN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163.22.87.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www           IN      AAAA    2001:288:xxxx::1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重新啟動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D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sudo /etc/init.d/bind9 restar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Ubuntu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【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NS 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伺服器設定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正解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52440" y="1463400"/>
            <a:ext cx="854064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/etc/bind/named.conf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本機反解檔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::1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設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zone </a:t>
            </a: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"1.0.0.0.0.0.0.0.0.0.0.0.0.0.0.0.0.0.0.0.0.0.0.0.0.0.0.0.0.0.0.0.ip6.arpa"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type master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file "localhost.rev"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本機反解檔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localhost.rev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部分內容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$ORIGIN 0.0.0.0.0.0.0.0.0.0.0.0.0.0.0.0.ip6.arp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微軟正黑體"/>
              </a:rPr>
              <a:t>1.0.0.0.0.0.0.0.0.0.0.0.0.0.0.0 IN      PTR     localhost.ntct.edu.tw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Ubuntu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【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NS 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伺服器設定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反解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52440" y="1197000"/>
            <a:ext cx="768024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要顛倒回來寫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且需要補上相對應的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0 ,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此例領域為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: 2001:288:C2AC: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也就是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001:0288:C2AC:: ,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變成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C.A.2.C.8.8.2.0.1.0.0.2.ip6.arp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zone "C.A.2.C.8.8.2.0.1.0.0.2.ip6.arpa" {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type master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file "rev/rev.2001288C2AC"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};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微軟正黑體"/>
              </a:rPr>
              <a:t>領域反解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52080" y="1463760"/>
            <a:ext cx="87915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由於領域為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C.A.2.C.8.8.2.0.1.0.0.2.ip6.arpa (12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個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所以內部檔案 要補上對應的字元數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(20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個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) ,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變成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32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個數字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如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001:288:C2AC::1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指向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dns.chps.ntct.edu.t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2001:288:C2AC::20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</a:rPr>
              <a:t>指向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</a:rPr>
              <a:t>www.chps.ntct.edu.t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微軟正黑體"/>
              </a:rPr>
              <a:t>1.0.0.0.0.0.0.0.0.0.0.0.0.0.0.0.0.0.0.0 IN      PTR     dns.chps.ntct.edu.tw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微軟正黑體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微軟正黑體"/>
              </a:rPr>
              <a:t>0.2.0.0.0.0.0.0.0.0.0.0.0.0.0.0.0.0.0.0 IN     PTR     www.chps.ntct.edu.tw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ffffff"/>
                </a:solidFill>
                <a:latin typeface="微軟正黑體"/>
              </a:rPr>
              <a:t>存檔後，</a:t>
            </a:r>
            <a:r>
              <a:rPr b="0" lang="en-US" sz="1900" spc="-1" strike="noStrike">
                <a:solidFill>
                  <a:srgbClr val="ffffff"/>
                </a:solidFill>
                <a:latin typeface="微軟正黑體"/>
              </a:rPr>
              <a:t>DNS</a:t>
            </a:r>
            <a:r>
              <a:rPr b="0" lang="zh-TW" sz="1900" spc="-1" strike="noStrike">
                <a:solidFill>
                  <a:srgbClr val="ffffff"/>
                </a:solidFill>
                <a:latin typeface="微軟正黑體"/>
              </a:rPr>
              <a:t>重新啟動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軟正黑體"/>
              </a:rPr>
              <a:t>rev.2001288C2AC </a:t>
            </a:r>
            <a:r>
              <a:rPr b="0" lang="zh-TW" sz="4000" spc="-1" strike="noStrike">
                <a:solidFill>
                  <a:srgbClr val="ffffff"/>
                </a:solidFill>
                <a:latin typeface="微軟正黑體"/>
              </a:rPr>
              <a:t>反解析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3" name="文字方塊 3"/>
          <p:cNvSpPr/>
          <p:nvPr/>
        </p:nvSpPr>
        <p:spPr>
          <a:xfrm>
            <a:off x="-376200" y="5877000"/>
            <a:ext cx="992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orbel"/>
              </a:rPr>
              <a:t>參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120.116.28.3/minlifetype/index.php?op=ViewArticle&amp;articleId=58&amp;blogId=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52080" y="1463400"/>
            <a:ext cx="8612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在一般的情況下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indows XP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並不支援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(Vista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及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in7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已有支援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)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，所以需要下載相關的程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而下載的方法非常簡單，只要命令提示字元中輸入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ipv6 install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"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就可以了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接著你就會看到安裝成功的訊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Windows XP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環境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啟動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250920" y="3743280"/>
            <a:ext cx="83962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24000" y="47592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之後再自我測試一下，輸入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ping6 ::1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假如有出現下面的畫面，則代表您的電腦已經支援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Pv6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了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942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8209080" cy="469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indows2003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一般而言是當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rver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，如果使用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utoconf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取得的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6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，顯然不適合拿來作為伺服器設定。所以我們設定一組固定的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到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s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下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:\&gt;nets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&gt;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&gt;ip6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安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instal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查看介面狀態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sh add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Pv6 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在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Windows2003 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下的設定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52440" y="549000"/>
            <a:ext cx="7680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找到區域連線是介面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介面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: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區域連線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位址類型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AD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狀態 有效存留時間 偏好存留時間 位址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--------- ---------- ------------ ------------ -----------------------------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公用 偏好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9d23h53m16s 6d23h53m16s 2001:288:5400:1:211:25ff:fe40:6072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連結 偏好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finite infinite fe80::211:25ff:fe40:6072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要修改的區域介面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d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為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，設定靜態位址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ore=persistent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代表永久儲存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tsh interface ipv6&gt;add address 4 address=2001:288:C2CA::1 store=persist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設定完畢再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h int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則會看到這筆手動設定的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p6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手動 偏好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finite infinite 2001:288:C2CA::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52080" y="333000"/>
            <a:ext cx="8791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查看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pv6 dn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tsh interface ipv6&gt;sh d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設定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6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的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ns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，如此這台機器才會查詢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6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的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ns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01:288:c200::1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是縣網的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n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tsh interface ipv6&gt;add dns interface="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區域連線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" address=2001:288:c200::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查看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pv6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路由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tsh interface ipv6&gt;sh rout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正在查詢使用中的狀態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..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發行 類型 公制 首碼 索引 閘道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介面名稱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------- -------- ---- ------------------------ ---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-------------------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o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自動設定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56 ::/0 4 fe80::209:fff:fe77:183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加上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pv6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路由，下面範例將預設路由設定到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::FFF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tsh interface ipv6&gt;add route ::/0 4 2001:288:C2CA::ffff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加上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pv6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路由後再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h route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則出現一筆手動的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o </a:t>
            </a:r>
            <a:r>
              <a:rPr b="0" lang="zh-TW" sz="2000" spc="-1" strike="noStrike">
                <a:solidFill>
                  <a:srgbClr val="ffffff"/>
                </a:solidFill>
                <a:latin typeface="Corbel"/>
              </a:rPr>
              <a:t>手動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0 ::/0 4 2001:288:C2CA::ffff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52440" y="333000"/>
            <a:ext cx="768024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其他指令：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以上指令若要刪除，則把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"add"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改為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"del"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即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例如刪除設錯的介面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del address 4 2001:288:C2CA::ffff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清空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手動的設定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rese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重啟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 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設定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rene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移除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uninstal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離開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tsh interface ipv6&gt;exi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開啟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Corbel"/>
              </a:rPr>
              <a:t>關閉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pv6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:\&gt;net start/stop tcpip6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52080" y="1463760"/>
            <a:ext cx="861228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１．本縣目前已配發每一所學校２部無線基地台，是提供各校做為跨校、跨縣市無線漫遊之用，並且需做好無線漫遊認證機制，請勿移做他用。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２．教育部要求做到每個學校都要能無線漫遊，請務必配合。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２．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10/21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縣網中心已抽查８校，結果．．．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３．預計１１月再做一次抽測，請勿存僥倖心理。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４．有許多學校在做無線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WEB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認證的時候，使用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win 7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系統或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pad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會認證失敗，解決方法如下：</a:t>
            </a:r>
            <a:br>
              <a:rPr sz="2500"/>
            </a:b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一、確定學校防火牆有對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163.22.168.73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打開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tcp 1812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及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1813</a:t>
            </a:r>
            <a:br>
              <a:rPr sz="2500"/>
            </a:b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二、瀏覽器打開連</a:t>
            </a:r>
            <a:r>
              <a:rPr b="0" lang="en-US" sz="2500" spc="-1" strike="noStrike">
                <a:solidFill>
                  <a:srgbClr val="ffffff"/>
                </a:solidFill>
                <a:latin typeface="微軟正黑體"/>
              </a:rPr>
              <a:t>10.0.1.1</a:t>
            </a:r>
            <a:r>
              <a:rPr b="0" lang="zh-TW" sz="2500" spc="-1" strike="noStrike">
                <a:solidFill>
                  <a:srgbClr val="ffffff"/>
                </a:solidFill>
                <a:latin typeface="微軟正黑體"/>
              </a:rPr>
              <a:t>，就會問帳密，輸入完就可以了。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二、無線網路漫遊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52080" y="549000"/>
            <a:ext cx="8396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ndows 2003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設定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S 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支援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Pv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請參考精讚部落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ttp://note.tcc.edu.tw/452.html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及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ttp://note.tcc.edu.tw/453.ht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ndows 2003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設定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IS </a:t>
            </a: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支援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Pv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Corbel"/>
              </a:rPr>
              <a:t>請參考精讚部落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ttp://note.tcc.edu.tw/459.ht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Corbel"/>
              </a:rPr>
              <a:t>Ｑ　＆　Ａ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標題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微軟正黑體"/>
                <a:ea typeface="Tunga"/>
              </a:rPr>
              <a:t>無線網路漫遊計畫說明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315280" cy="4537080"/>
          </a:xfrm>
          <a:prstGeom prst="rect">
            <a:avLst/>
          </a:prstGeom>
          <a:ln w="0">
            <a:noFill/>
          </a:ln>
        </p:spPr>
      </p:pic>
      <p:sp>
        <p:nvSpPr>
          <p:cNvPr id="560" name="文字方塊 2"/>
          <p:cNvSpPr/>
          <p:nvPr/>
        </p:nvSpPr>
        <p:spPr>
          <a:xfrm>
            <a:off x="6470640" y="3992400"/>
            <a:ext cx="24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之第</a:t>
            </a:r>
            <a:r>
              <a:rPr b="1" lang="en-US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19~24</a:t>
            </a:r>
            <a:r>
              <a:rPr b="1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埠啟用</a:t>
            </a:r>
            <a:r>
              <a:rPr b="1" lang="en-US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web</a:t>
            </a:r>
            <a:r>
              <a:rPr b="1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認證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1" name="Picture 190" descr=""/>
          <p:cNvPicPr/>
          <p:nvPr/>
        </p:nvPicPr>
        <p:blipFill>
          <a:blip r:embed="rId2"/>
          <a:stretch/>
        </p:blipFill>
        <p:spPr>
          <a:xfrm>
            <a:off x="6470640" y="6021360"/>
            <a:ext cx="614520" cy="509760"/>
          </a:xfrm>
          <a:prstGeom prst="rect">
            <a:avLst/>
          </a:prstGeom>
          <a:ln w="0">
            <a:noFill/>
          </a:ln>
        </p:spPr>
      </p:pic>
      <p:sp>
        <p:nvSpPr>
          <p:cNvPr id="562" name="向右箭號 8"/>
          <p:cNvSpPr/>
          <p:nvPr/>
        </p:nvSpPr>
        <p:spPr>
          <a:xfrm rot="16200000">
            <a:off x="6373080" y="5731560"/>
            <a:ext cx="465120" cy="114480"/>
          </a:xfrm>
          <a:custGeom>
            <a:avLst/>
            <a:gdLst/>
            <a:ahLst/>
            <a:rect l="l" t="t" r="r" b="b"/>
            <a:pathLst>
              <a:path w="465138" h="114300">
                <a:moveTo>
                  <a:pt x="0" y="28575"/>
                </a:moveTo>
                <a:lnTo>
                  <a:pt x="3572" y="28575"/>
                </a:lnTo>
                <a:lnTo>
                  <a:pt x="3572" y="85725"/>
                </a:lnTo>
                <a:lnTo>
                  <a:pt x="0" y="85725"/>
                </a:lnTo>
                <a:lnTo>
                  <a:pt x="0" y="28575"/>
                </a:lnTo>
                <a:close/>
                <a:moveTo>
                  <a:pt x="7144" y="28575"/>
                </a:moveTo>
                <a:lnTo>
                  <a:pt x="14288" y="28575"/>
                </a:lnTo>
                <a:lnTo>
                  <a:pt x="14288" y="85725"/>
                </a:lnTo>
                <a:lnTo>
                  <a:pt x="7144" y="85725"/>
                </a:lnTo>
                <a:lnTo>
                  <a:pt x="7144" y="28575"/>
                </a:lnTo>
                <a:close/>
                <a:moveTo>
                  <a:pt x="17859" y="28575"/>
                </a:moveTo>
                <a:lnTo>
                  <a:pt x="407988" y="28575"/>
                </a:lnTo>
                <a:lnTo>
                  <a:pt x="407988" y="0"/>
                </a:lnTo>
                <a:lnTo>
                  <a:pt x="465138" y="57150"/>
                </a:lnTo>
                <a:lnTo>
                  <a:pt x="407988" y="114300"/>
                </a:lnTo>
                <a:lnTo>
                  <a:pt x="407988" y="85725"/>
                </a:lnTo>
                <a:lnTo>
                  <a:pt x="17859" y="85725"/>
                </a:lnTo>
                <a:lnTo>
                  <a:pt x="17859" y="2857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文字方塊 5"/>
          <p:cNvSpPr/>
          <p:nvPr/>
        </p:nvSpPr>
        <p:spPr>
          <a:xfrm>
            <a:off x="6990480" y="55404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WEB</a:t>
            </a:r>
            <a:r>
              <a:rPr b="1" lang="zh-TW" sz="1800" spc="-1" strike="noStrike">
                <a:solidFill>
                  <a:srgbClr val="ff0000"/>
                </a:solidFill>
                <a:latin typeface="新細明體"/>
                <a:ea typeface="新細明體"/>
              </a:rPr>
              <a:t>認證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文字方塊 10"/>
          <p:cNvSpPr/>
          <p:nvPr/>
        </p:nvSpPr>
        <p:spPr>
          <a:xfrm>
            <a:off x="6523200" y="325440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（或可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adius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認證之防火牆）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左-右雙向箭號 11"/>
          <p:cNvSpPr/>
          <p:nvPr/>
        </p:nvSpPr>
        <p:spPr>
          <a:xfrm>
            <a:off x="900000" y="2060640"/>
            <a:ext cx="432000" cy="2160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文字方塊 12"/>
          <p:cNvSpPr/>
          <p:nvPr/>
        </p:nvSpPr>
        <p:spPr>
          <a:xfrm>
            <a:off x="157320" y="1106640"/>
            <a:ext cx="45396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宜蘭大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無線漫遊中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52080" y="1463400"/>
            <a:ext cx="8396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-716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rbel"/>
              </a:rPr>
              <a:t>１．</a:t>
            </a:r>
            <a:r>
              <a:rPr b="0" lang="zh-TW" sz="3000" spc="-1" strike="noStrike">
                <a:solidFill>
                  <a:srgbClr val="ffffff"/>
                </a:solidFill>
                <a:latin typeface="Corbel"/>
              </a:rPr>
              <a:t>首先說明：連續四年資安通報演練都是全國分批、全縣每個學校都收到演練通知，並無運氣問題，以後每年也都會有這樣的演練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16040" indent="-716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rbel"/>
              </a:rPr>
              <a:t>２．</a:t>
            </a:r>
            <a:r>
              <a:rPr b="0" lang="zh-TW" sz="3000" spc="-1" strike="noStrike">
                <a:solidFill>
                  <a:srgbClr val="ffffff"/>
                </a:solidFill>
                <a:latin typeface="Corbel"/>
              </a:rPr>
              <a:t>感謝林怡禎小姐奪命連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LL</a:t>
            </a:r>
            <a:r>
              <a:rPr b="0" lang="zh-TW" sz="3000" spc="-1" strike="noStrike">
                <a:solidFill>
                  <a:srgbClr val="ffffff"/>
                </a:solidFill>
                <a:latin typeface="Corbel"/>
              </a:rPr>
              <a:t>，這次成績應該不差，也感謝各位老師不辭辛勞，甚至也有老師在墾丁海生館完成通報的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16040" indent="-716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orbel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WEBMAIL</a:t>
            </a:r>
            <a:r>
              <a:rPr b="1" lang="zh-TW" sz="3200" spc="-1" strike="noStrike">
                <a:solidFill>
                  <a:srgbClr val="ffffff"/>
                </a:solidFill>
                <a:latin typeface="Corbel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MAILGATE</a:t>
            </a:r>
            <a:r>
              <a:rPr b="1" lang="zh-TW" sz="3200" spc="-1" strike="noStrike">
                <a:solidFill>
                  <a:srgbClr val="ffffff"/>
                </a:solidFill>
                <a:latin typeface="Corbel"/>
              </a:rPr>
              <a:t>已經轉移至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VMware</a:t>
            </a:r>
            <a:r>
              <a:rPr b="1" lang="zh-TW" sz="3200" spc="-1" strike="noStrike">
                <a:solidFill>
                  <a:srgbClr val="ffffff"/>
                </a:solidFill>
                <a:latin typeface="Corbel"/>
              </a:rPr>
              <a:t>虛機主機上，目前觀察效能還不錯。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三、資安通報演練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52080" y="1463400"/>
            <a:ext cx="839628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１．南投縣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100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年度學校網站主機弱點掃描，尚未申請及尚未進行排程掃描的學校，請儘速完成。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２．教育部「資安防護學園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--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網路叢林大冒險」活動自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100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年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10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月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11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日起至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11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月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25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日止，請各校鼓勵同學上網參加，國中已經有被關切。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３．資安推廣研習成果照片及簽到冊請記得掃描後貼到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WORD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成一個檔案，再轉成一個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pdf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檔上傳至資訊教育網。網址：</a:t>
            </a:r>
            <a:r>
              <a:rPr b="0" lang="en-US" sz="2600" spc="-1" strike="noStrike" u="sng">
                <a:solidFill>
                  <a:srgbClr val="b5740b"/>
                </a:solidFill>
                <a:uFillTx/>
                <a:latin typeface="微軟正黑體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b5740b"/>
                </a:solidFill>
                <a:uFillTx/>
                <a:latin typeface="微軟正黑體"/>
                <a:hlinkClick r:id="rId2"/>
              </a:rPr>
              <a:t>ntie.ntct.edu.tw</a:t>
            </a:r>
            <a:r>
              <a:rPr b="0" lang="en-US" sz="2600" spc="-1" strike="noStrike" u="sng">
                <a:solidFill>
                  <a:srgbClr val="b5740b"/>
                </a:solidFill>
                <a:uFillTx/>
                <a:latin typeface="微軟正黑體"/>
                <a:hlinkClick r:id="rId3"/>
              </a:rPr>
              <a:t>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４．配發之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Dlink 3426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除非學校有其他可配發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的設備，否則一定要上線。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５．今年各校之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DNS SERVER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，請完成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設定，學校網站也必須支援設定</a:t>
            </a:r>
            <a:r>
              <a:rPr b="0" lang="en-US" sz="2600" spc="-1" strike="noStrike">
                <a:solidFill>
                  <a:srgbClr val="ffffff"/>
                </a:solidFill>
                <a:latin typeface="微軟正黑體"/>
              </a:rPr>
              <a:t>IPV6</a:t>
            </a:r>
            <a:r>
              <a:rPr b="0" lang="zh-TW" sz="2600" spc="-1" strike="noStrike">
                <a:solidFill>
                  <a:srgbClr val="ffffff"/>
                </a:solidFill>
                <a:latin typeface="微軟正黑體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【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資訊安全提醒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】</a:t>
            </a: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52440" y="1463400"/>
            <a:ext cx="825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◎</a:t>
            </a:r>
            <a:r>
              <a:rPr b="0" lang="zh-TW" sz="3600" spc="-1" strike="noStrike">
                <a:solidFill>
                  <a:srgbClr val="ffffff"/>
                </a:solidFill>
                <a:latin typeface="Corbel"/>
              </a:rPr>
              <a:t>請依學校需求填寫廣播系統及還原軟體數量。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◎</a:t>
            </a:r>
            <a:r>
              <a:rPr b="0" lang="zh-TW" sz="3600" spc="-1" strike="noStrike">
                <a:solidFill>
                  <a:srgbClr val="ffffff"/>
                </a:solidFill>
                <a:latin typeface="Corbel"/>
              </a:rPr>
              <a:t>督學視導各學校時，發現學校網站沒有更新，要求轉達各校定期更新網站內容，本中心預定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11</a:t>
            </a:r>
            <a:r>
              <a:rPr b="0" lang="zh-TW" sz="3600" spc="-1" strike="noStrike">
                <a:solidFill>
                  <a:srgbClr val="ffffff"/>
                </a:solidFill>
                <a:latin typeface="Corbel"/>
              </a:rPr>
              <a:t>月底做一次總清查，無更新之學校將正式發文請各校改善。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廣播系統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52440" y="184428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orbel"/>
              </a:rPr>
              <a:t>南投縣教育網路中心粉絲團　</a:t>
            </a:r>
            <a:r>
              <a:rPr b="0" lang="en-US" sz="44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http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://www.facebook.com/encntc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orbel"/>
              </a:rPr>
              <a:t>（請按讚加入）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orbel"/>
              </a:rPr>
              <a:t>噗浪帳號　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http://www.plurk.com/ntc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Corbel"/>
              </a:rPr>
              <a:t>本中心成立縣網中心粉絲團及噗浪帳號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8200" indent="-808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Corbel"/>
              </a:rPr>
              <a:t>１．本中心依教育部規範服務南投縣國中小學，高中職本不在服務範圍，請高中職學校要注意資安事件，若學校不依規定使用網路，造成本中心年終考評失分，將正式發文請該校轉接區網中心並予以斷線處置。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808200" indent="-808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Corbel"/>
              </a:rPr>
              <a:t>２．目前高中職中投有線應允高中職網路費比照國中小每月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1700</a:t>
            </a:r>
            <a:r>
              <a:rPr b="0" lang="zh-TW" sz="3200" spc="-1" strike="noStrike">
                <a:solidFill>
                  <a:srgbClr val="ffffff"/>
                </a:solidFill>
                <a:latin typeface="Corbel"/>
              </a:rPr>
              <a:t>元（集縮比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20:1</a:t>
            </a:r>
            <a:r>
              <a:rPr b="0" lang="zh-TW" sz="3200" spc="-1" strike="noStrike">
                <a:solidFill>
                  <a:srgbClr val="ffffff"/>
                </a:solidFill>
                <a:latin typeface="Corbel"/>
              </a:rPr>
              <a:t>），中華電信也答應簽兩年有打折。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orbel"/>
              </a:rPr>
              <a:t>高中職學校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41:19Z</dcterms:created>
  <dc:creator>alina</dc:creator>
  <dc:description/>
  <dc:language>en-US</dc:language>
  <cp:lastModifiedBy>frank</cp:lastModifiedBy>
  <dcterms:modified xsi:type="dcterms:W3CDTF">2011-10-21T01:47:58Z</dcterms:modified>
  <cp:revision>47</cp:revision>
  <dc:subject/>
  <dc:title>尸</dc:title>
</cp:coreProperties>
</file>