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965F9-8A14-436C-83A8-383A9F93A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BFD98-E45A-4E17-A84C-C28A0DA8A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2AB7C-9E22-4554-AC13-97CE4066F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8A97C-4196-4087-A0E8-B662E3DBA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5B92B-CAF5-4D20-8F9A-FC542BD17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9032B-A444-433B-AC7F-58DF8F623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CB62D-1941-48C3-93C6-66B77FC50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EBC90-A0E0-409C-95B1-BBBA682D3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6FDCD-E66A-44C0-B61B-B47C83359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56B02-6436-4F43-80B4-126F064D9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CDE60-A085-4E59-8F50-97DB86E28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A371B-924E-4372-9D45-E5BE943C3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45845-38D4-497F-8026-11DE92B88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AE957-195B-47DB-9D45-1CEF944C0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707BE-04C6-40AF-ABD9-EEE69B0A0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6F7FB-DEA3-4269-A134-04698102E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2A3AB-3D87-445A-AB46-B49F28113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F5487-EF16-43DA-B06D-85E5E1504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381B1-5351-4B21-8522-4DC5632C1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97522-D6E5-4E54-9A57-DECDB3DC9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3974B-F838-4604-8DDB-1B9DF9701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3BA0F-A3B5-469E-BD34-AE10553E9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94BBC-46BB-4BA8-991D-D7D4689A1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B9DCE-600E-4C41-9619-8CEB81921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6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D9A14-D05A-474A-92A1-F1F8B70EA4DC}" type="slidenum">
              <a:rPr b="0" lang="zh-TW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35000" y="476280"/>
            <a:ext cx="9009000" cy="1052640"/>
            <a:chOff x="135000" y="476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425520" y="584280"/>
              <a:ext cx="711360" cy="474840"/>
              <a:chOff x="425520" y="584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425520" y="584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808560" y="584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549360" y="1006560"/>
              <a:ext cx="737640" cy="474840"/>
              <a:chOff x="549360" y="1006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549360" y="1006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918000" y="1006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135000" y="933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770040" y="476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51080" y="1298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6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FFAB1-E89D-4563-9139-9204F52FE422}" type="slidenum">
              <a:rPr b="0" lang="zh-TW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tp://ftp.tnc.edu.tw/Sysop/sfs3/install-tools/INSTALL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p/test.php" TargetMode="External"/><Relationship Id="rId2" Type="http://schemas.openxmlformats.org/officeDocument/2006/relationships/hyperlink" Target="http://ip/test.php" TargetMode="External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tp://ftp.tnc.edu.tw/Sysop/urh/urh73-1.0.1.tar.gz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tp://ftp.tnc.edu.tw/Sysop/sfs3/sfs3/beta/sfs-3.0.b1bugfix-200309231431.tar.gz" TargetMode="External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71640" y="260280"/>
            <a:ext cx="7772400" cy="11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7200" spc="-1" strike="noStrike">
                <a:solidFill>
                  <a:srgbClr val="333399"/>
                </a:solidFill>
                <a:latin typeface="Tahoma"/>
                <a:ea typeface="標楷體"/>
              </a:rPr>
              <a:t>自由軟體</a:t>
            </a:r>
            <a:r>
              <a:rPr b="0" lang="zh-TW" sz="7200" spc="-1" strike="noStrike">
                <a:solidFill>
                  <a:srgbClr val="333399"/>
                </a:solidFill>
                <a:latin typeface="Tahoma"/>
                <a:ea typeface="標楷體"/>
              </a:rPr>
              <a:t>SFS3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116000" y="1916280"/>
            <a:ext cx="687240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SFS3 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學務系統是採用開放原始程式碼所架構的校務行政電腦化系統，目標是希望使各中小學校能擁有一個自由開放強大的校務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化平台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本系統採用 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Apache+PHP+MySQL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，具備強大的模組功能，並且跨平台支援 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Linux/FreeBSD/Windows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等作業環境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最大的特色是：自由、開放、模組化、高度可擴展能力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SFS3 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目前由台中縣網，台南縣網和台中市網共同合作，採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CVS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合作管理原始碼，提供用戶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upsfs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自動升級工具，架設容易且提供自動安裝程序以及操作手冊說明文件等資源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333399"/>
                </a:solidFill>
                <a:latin typeface="Tahoma"/>
              </a:rPr>
              <a:t>修改 </a:t>
            </a:r>
            <a:r>
              <a:rPr b="0" lang="zh-TW" sz="3600" spc="-1" strike="noStrike">
                <a:solidFill>
                  <a:srgbClr val="333399"/>
                </a:solidFill>
                <a:latin typeface="Tahoma"/>
              </a:rPr>
              <a:t>/etc/php4/apache/php.ini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mem_limit = </a:t>
            </a:r>
            <a:r>
              <a:rPr b="0" lang="zh-TW" sz="3200" spc="-1" strike="noStrike">
                <a:solidFill>
                  <a:srgbClr val="ff0000"/>
                </a:solidFill>
                <a:latin typeface="Tahoma"/>
              </a:rPr>
              <a:t>8</a:t>
            </a: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M 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建議加大為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2-3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倍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upload_max_filesize = </a:t>
            </a:r>
            <a:r>
              <a:rPr b="0" lang="zh-TW" sz="3200" spc="-1" strike="noStrike">
                <a:solidFill>
                  <a:srgbClr val="ff0000"/>
                </a:solidFill>
                <a:latin typeface="Tahoma"/>
              </a:rPr>
              <a:t>2</a:t>
            </a: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M 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視上傳需要加大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11430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333399"/>
                </a:solidFill>
                <a:latin typeface="Tahoma"/>
              </a:rPr>
              <a:t>使用 </a:t>
            </a:r>
            <a:r>
              <a:rPr b="1" lang="zh-TW" sz="6000" spc="-1" strike="noStrike">
                <a:solidFill>
                  <a:srgbClr val="333399"/>
                </a:solidFill>
                <a:latin typeface="Tahoma"/>
              </a:rPr>
              <a:t>SFS3</a:t>
            </a:r>
            <a:endParaRPr b="0" lang="en-US" sz="6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在瀏覽器中執行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http://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您的主機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/sfs3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登入之預設帳號為 </a:t>
            </a: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1001</a:t>
            </a: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，預設密碼為 </a:t>
            </a: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dem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新增模組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設定模組權限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調整模組設定值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例：數位相本、圖書管理、校務佈告欄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333399"/>
                </a:solidFill>
                <a:latin typeface="Tahoma"/>
              </a:rPr>
              <a:t>SFS3</a:t>
            </a:r>
            <a:r>
              <a:rPr b="1" lang="zh-TW" sz="6000" spc="-1" strike="noStrike">
                <a:solidFill>
                  <a:srgbClr val="333399"/>
                </a:solidFill>
                <a:latin typeface="Tahoma"/>
              </a:rPr>
              <a:t>的更新</a:t>
            </a:r>
            <a:endParaRPr b="0" lang="en-US" sz="6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手動更新   </a:t>
            </a: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1.02</a:t>
            </a: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版 </a:t>
            </a: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建議</a:t>
            </a: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自動更新   </a:t>
            </a: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1.03rc2</a:t>
            </a: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版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在 </a:t>
            </a: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crontab </a:t>
            </a: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排程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/root/upsfs --batch upsfs.tnc.edu.tw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11430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333399"/>
                </a:solidFill>
                <a:latin typeface="Tahoma"/>
              </a:rPr>
              <a:t>SFS3 </a:t>
            </a:r>
            <a:r>
              <a:rPr b="1" lang="zh-TW" sz="6000" spc="-1" strike="noStrike">
                <a:solidFill>
                  <a:srgbClr val="333399"/>
                </a:solidFill>
                <a:latin typeface="Tahoma"/>
              </a:rPr>
              <a:t>的備份</a:t>
            </a:r>
            <a:endParaRPr b="0" lang="en-US" sz="6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備份</a:t>
            </a: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data</a:t>
            </a: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的</a:t>
            </a: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script</a:t>
            </a: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：</a:t>
            </a: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backup_data.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#! /bin/cs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set date=`date "+%d"`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set backupname=backup_sfs3data_$date.tar.g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cd /var/lib/mysql/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if -e sfs3 th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tar zcf $backupname sfs3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cp -f $backupname /var/mail/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endi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333399"/>
                </a:solidFill>
                <a:latin typeface="Tahoma"/>
              </a:rPr>
              <a:t>SFS3 </a:t>
            </a:r>
            <a:r>
              <a:rPr b="1" lang="zh-TW" sz="6000" spc="-1" strike="noStrike">
                <a:solidFill>
                  <a:srgbClr val="333399"/>
                </a:solidFill>
                <a:latin typeface="Tahoma"/>
              </a:rPr>
              <a:t>的備份</a:t>
            </a:r>
            <a:endParaRPr b="0" lang="en-US" sz="6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備份</a:t>
            </a: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program</a:t>
            </a: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的</a:t>
            </a: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script</a:t>
            </a: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：</a:t>
            </a: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backup_run.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#! /bin/cs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set date=`date "+%d"`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set backupname=backup_sfs3run_$date.tar.g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cd /var/ww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if -e sfs3 th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tar zcf $backupname sfs3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cp -f $backupname /var/mail/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endi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11430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333399"/>
                </a:solidFill>
                <a:latin typeface="Tahoma"/>
              </a:rPr>
              <a:t>SFS3 </a:t>
            </a:r>
            <a:r>
              <a:rPr b="1" lang="zh-TW" sz="6000" spc="-1" strike="noStrike">
                <a:solidFill>
                  <a:srgbClr val="333399"/>
                </a:solidFill>
                <a:latin typeface="Tahoma"/>
              </a:rPr>
              <a:t>的回存</a:t>
            </a:r>
            <a:endParaRPr b="0" lang="en-US" sz="6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ahoma"/>
              </a:rPr>
              <a:t>回存 </a:t>
            </a:r>
            <a:r>
              <a:rPr b="0" lang="zh-TW" sz="1800" spc="-1" strike="noStrike">
                <a:solidFill>
                  <a:srgbClr val="000000"/>
                </a:solidFill>
                <a:latin typeface="Tahoma"/>
              </a:rPr>
              <a:t>data</a:t>
            </a:r>
            <a:r>
              <a:rPr b="0" lang="zh-TW" sz="1800" spc="-1" strike="noStrike">
                <a:solidFill>
                  <a:srgbClr val="000000"/>
                </a:solidFill>
                <a:latin typeface="Tahoma"/>
              </a:rPr>
              <a:t>的</a:t>
            </a:r>
            <a:r>
              <a:rPr b="0" lang="zh-TW" sz="1800" spc="-1" strike="noStrike">
                <a:solidFill>
                  <a:srgbClr val="000000"/>
                </a:solidFill>
                <a:latin typeface="Tahoma"/>
              </a:rPr>
              <a:t>script</a:t>
            </a:r>
            <a:r>
              <a:rPr b="0" lang="zh-TW" sz="1800" spc="-1" strike="noStrike">
                <a:solidFill>
                  <a:srgbClr val="000000"/>
                </a:solidFill>
                <a:latin typeface="Tahoma"/>
              </a:rPr>
              <a:t>：</a:t>
            </a:r>
            <a:r>
              <a:rPr b="0" lang="zh-TW" sz="1800" spc="-1" strike="noStrike">
                <a:solidFill>
                  <a:srgbClr val="000000"/>
                </a:solidFill>
                <a:latin typeface="Tahoma"/>
              </a:rPr>
              <a:t>restore_data.u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ahoma"/>
              </a:rPr>
              <a:t>#! /bin/cs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ahoma"/>
              </a:rPr>
              <a:t>set date=`date "+%d"`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ahoma"/>
              </a:rPr>
              <a:t>echo –n “restore date mmdd”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ahoma"/>
              </a:rPr>
              <a:t>set restdate=$&l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ahoma"/>
              </a:rPr>
              <a:t>/etc/init.d/mysql sto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ahoma"/>
              </a:rPr>
              <a:t>cd /var/lib/mysq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ahoma"/>
              </a:rPr>
              <a:t>if –e backup_sfs3data_$restdate.tar.gz the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Tahoma"/>
              </a:rPr>
              <a:t>if –e sfs3 the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ahoma"/>
              </a:rPr>
              <a:t>mv sfs3 sfs3_$dat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Tahoma"/>
              </a:rPr>
              <a:t>endi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Tahoma"/>
              </a:rPr>
              <a:t>tar zxf backup_sfs3data_$restdate.tar.gz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ahoma"/>
              </a:rPr>
              <a:t>endif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ahoma"/>
              </a:rPr>
              <a:t>/etc/init.d/mysql star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333399"/>
                </a:solidFill>
                <a:latin typeface="Tahoma"/>
              </a:rPr>
              <a:t>SFS3 </a:t>
            </a:r>
            <a:r>
              <a:rPr b="1" lang="zh-TW" sz="6000" spc="-1" strike="noStrike">
                <a:solidFill>
                  <a:srgbClr val="333399"/>
                </a:solidFill>
                <a:latin typeface="Tahoma"/>
              </a:rPr>
              <a:t>的回存</a:t>
            </a:r>
            <a:endParaRPr b="0" lang="en-US" sz="6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ahoma"/>
              </a:rPr>
              <a:t>回存 </a:t>
            </a:r>
            <a:r>
              <a:rPr b="0" lang="zh-TW" sz="1800" spc="-1" strike="noStrike">
                <a:solidFill>
                  <a:srgbClr val="000000"/>
                </a:solidFill>
                <a:latin typeface="Tahoma"/>
              </a:rPr>
              <a:t>program</a:t>
            </a:r>
            <a:r>
              <a:rPr b="0" lang="zh-TW" sz="1800" spc="-1" strike="noStrike">
                <a:solidFill>
                  <a:srgbClr val="000000"/>
                </a:solidFill>
                <a:latin typeface="Tahoma"/>
              </a:rPr>
              <a:t>的</a:t>
            </a:r>
            <a:r>
              <a:rPr b="0" lang="zh-TW" sz="1800" spc="-1" strike="noStrike">
                <a:solidFill>
                  <a:srgbClr val="000000"/>
                </a:solidFill>
                <a:latin typeface="Tahoma"/>
              </a:rPr>
              <a:t>script</a:t>
            </a:r>
            <a:r>
              <a:rPr b="0" lang="zh-TW" sz="1800" spc="-1" strike="noStrike">
                <a:solidFill>
                  <a:srgbClr val="000000"/>
                </a:solidFill>
                <a:latin typeface="Tahoma"/>
              </a:rPr>
              <a:t>：</a:t>
            </a:r>
            <a:r>
              <a:rPr b="0" lang="zh-TW" sz="1800" spc="-1" strike="noStrike">
                <a:solidFill>
                  <a:srgbClr val="000000"/>
                </a:solidFill>
                <a:latin typeface="Tahoma"/>
              </a:rPr>
              <a:t>restore_run.u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ahoma"/>
              </a:rPr>
              <a:t>#! /bin/cs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ahoma"/>
              </a:rPr>
              <a:t>set date=`date "+%d"`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ahoma"/>
              </a:rPr>
              <a:t>echo –n “restore run mmdd”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ahoma"/>
              </a:rPr>
              <a:t>set restdate=$&l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ahoma"/>
              </a:rPr>
              <a:t>/etc/init.d/apache sto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ahoma"/>
              </a:rPr>
              <a:t>cd /var/www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ahoma"/>
              </a:rPr>
              <a:t>if –e backup_sfs3run_$restdate.tar.gz the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Tahoma"/>
              </a:rPr>
              <a:t>if –e sfs3 the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ahoma"/>
              </a:rPr>
              <a:t>mv sfs3 sfs3_$dat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Tahoma"/>
              </a:rPr>
              <a:t>endi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Tahoma"/>
              </a:rPr>
              <a:t>tar zxf backup_sfs3run_$restdate.tar.gz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ahoma"/>
              </a:rPr>
              <a:t>endif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ahoma"/>
              </a:rPr>
              <a:t>/etc/init.d/apache star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333399"/>
                </a:solidFill>
                <a:latin typeface="Tahoma"/>
              </a:rPr>
              <a:t>使用</a:t>
            </a:r>
            <a:r>
              <a:rPr b="1" lang="zh-TW" sz="4000" spc="-1" strike="noStrike">
                <a:solidFill>
                  <a:srgbClr val="333399"/>
                </a:solidFill>
                <a:latin typeface="Tahoma"/>
              </a:rPr>
              <a:t>openoffice </a:t>
            </a:r>
            <a:r>
              <a:rPr b="1" lang="zh-TW" sz="4000" spc="-1" strike="noStrike">
                <a:solidFill>
                  <a:srgbClr val="333399"/>
                </a:solidFill>
                <a:latin typeface="Tahoma"/>
              </a:rPr>
              <a:t>列印相關報表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下載 </a:t>
            </a: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openoffic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openoffice </a:t>
            </a: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補給站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8000" spc="-1" strike="noStrike">
                <a:solidFill>
                  <a:srgbClr val="333399"/>
                </a:solidFill>
                <a:latin typeface="Tahoma"/>
              </a:rPr>
              <a:t>系統平台</a:t>
            </a:r>
            <a:r>
              <a:rPr b="0" lang="zh-TW" sz="60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6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Linux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Deb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Mandrak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Redh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FreeBS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Window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333399"/>
                </a:solidFill>
                <a:latin typeface="Tahoma"/>
              </a:rPr>
              <a:t>相關套件及程式組安裝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rpm</a:t>
            </a: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apt-get</a:t>
            </a: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tarball (</a:t>
            </a:r>
            <a:r>
              <a:rPr b="0" lang="zh-TW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安裝說明</a:t>
            </a: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Apache+PHP+MySQ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*mysql 3.23.56</a:t>
            </a:r>
            <a:br>
              <a:rPr sz="2800"/>
            </a:b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* apache 1.3.27</a:t>
            </a:r>
            <a:br>
              <a:rPr sz="2800"/>
            </a:b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* php 4.3.1</a:t>
            </a:r>
            <a:br>
              <a:rPr sz="2800"/>
            </a:b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* expat 1.95.5</a:t>
            </a:r>
            <a:br>
              <a:rPr sz="2800"/>
            </a:b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* zlib 1.1.4</a:t>
            </a:r>
            <a:br>
              <a:rPr sz="2800"/>
            </a:b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* libiconv 1.8</a:t>
            </a:r>
            <a:br>
              <a:rPr sz="2800"/>
            </a:b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* Sablot 0.98rc2</a:t>
            </a:r>
            <a:br>
              <a:rPr sz="2800"/>
            </a:b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* libxml2 2.5.4</a:t>
            </a:r>
            <a:br>
              <a:rPr sz="2800"/>
            </a:b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數位相本需加裝</a:t>
            </a: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(unzip</a:t>
            </a: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imagemagic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333399"/>
                </a:solidFill>
                <a:latin typeface="Tahoma"/>
              </a:rPr>
              <a:t>相關套件及程式組檢視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</a:t>
            </a:r>
            <a:r>
              <a:rPr b="0" lang="zh-TW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ip/test.php</a:t>
            </a: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(test.php</a:t>
            </a: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之內容 </a:t>
            </a: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&lt;? phpinfo(); ?&gt; 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檢查 </a:t>
            </a: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php4 </a:t>
            </a: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是否支援 </a:t>
            </a: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mysql</a:t>
            </a: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libiconv</a:t>
            </a: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zlib</a:t>
            </a: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gd2</a:t>
            </a: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及未來會需要的模組</a:t>
            </a: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(expat</a:t>
            </a: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sablot</a:t>
            </a: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libxml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333399"/>
                </a:solidFill>
                <a:latin typeface="Tahoma"/>
              </a:rPr>
              <a:t>系統及套件更新</a:t>
            </a:r>
            <a:endParaRPr b="0" lang="en-US" sz="6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debian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apt-get upd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apt-get upg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redhat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autoURPM</a:t>
            </a:r>
            <a:r>
              <a:rPr b="0" lang="zh-TW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zh-TW" sz="2800" spc="-1" strike="noStrike" u="sng">
                <a:solidFill>
                  <a:srgbClr val="ff0000"/>
                </a:solidFill>
                <a:uFillTx/>
                <a:latin typeface="Wingdings"/>
                <a:ea typeface="Wingdings"/>
                <a:hlinkClick r:id="rId1"/>
              </a:rPr>
              <a:t>urh73-1.0.1.tar.g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333399"/>
                </a:solidFill>
                <a:latin typeface="Tahoma"/>
              </a:rPr>
              <a:t>debian </a:t>
            </a:r>
            <a:r>
              <a:rPr b="0" lang="zh-TW" sz="5400" spc="-1" strike="noStrike">
                <a:solidFill>
                  <a:srgbClr val="333399"/>
                </a:solidFill>
                <a:latin typeface="Tahoma"/>
              </a:rPr>
              <a:t>還原光碟需執行 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3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atp-get upd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atp-get upg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apt-get install mysql-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apt-get install php4-mysq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apt-get install php4-gd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apt-get install php4-domxm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apt-get install php4-xs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mysqladmin –u root password ‘your pass’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apt-get install unz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apt-get install imagemagi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000" spc="-1" strike="noStrike">
                <a:solidFill>
                  <a:srgbClr val="333399"/>
                </a:solidFill>
                <a:latin typeface="Tahoma"/>
              </a:rPr>
              <a:t>Webmin</a:t>
            </a:r>
            <a:r>
              <a:rPr b="0" lang="zh-TW" sz="6000" spc="-1" strike="noStrike">
                <a:solidFill>
                  <a:srgbClr val="333399"/>
                </a:solidFill>
                <a:latin typeface="Tahoma"/>
              </a:rPr>
              <a:t>的問題</a:t>
            </a:r>
            <a:endParaRPr b="0" lang="en-US" sz="6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cp –R /etc/webmin /etc/webmin_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806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儲存舊的設定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3360" indent="-60336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mkdir –p /var/tmp/webmin_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3360" indent="-603360">
              <a:spcBef>
                <a:spcPts val="4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ahoma"/>
              </a:rPr>
              <a:t>mv /var/lib/dpkg/info/webmin* /var/tmp/webmin_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3360" indent="-603360">
              <a:spcBef>
                <a:spcPts val="4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ahoma"/>
              </a:rPr>
              <a:t>apt-get install webm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3360" indent="-60336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mv /etc/webmin /etc/webmin_n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3360" indent="-60336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mv /etc/webmin_c /etc/webm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806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還原舊的設定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)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80640" indent="0" algn="r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---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摘自網路中心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33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33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333399"/>
                </a:solidFill>
                <a:latin typeface="Tahoma"/>
              </a:rPr>
              <a:t>使用自由軟體</a:t>
            </a:r>
            <a:r>
              <a:rPr b="1" lang="zh-TW" sz="6000" spc="-1" strike="noStrike">
                <a:solidFill>
                  <a:srgbClr val="333399"/>
                </a:solidFill>
                <a:latin typeface="Tahoma"/>
              </a:rPr>
              <a:t>sfs3</a:t>
            </a:r>
            <a:r>
              <a:rPr b="0" lang="zh-TW" sz="60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6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3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ahoma"/>
              </a:rPr>
              <a:t>下載 </a:t>
            </a:r>
            <a:r>
              <a:rPr b="0" lang="zh-TW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SFS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ahoma"/>
              </a:rPr>
              <a:t>安裝 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</a:rPr>
              <a:t>SFS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ahoma"/>
              </a:rPr>
              <a:t>mv sfs-3.0.b1bugfix-200309231431.tar.gz /var/www/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ahoma"/>
              </a:rPr>
              <a:t>cd /var/www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ahoma"/>
              </a:rPr>
              <a:t>tar xvzf sfs-3.0.b1bugfix-200309231431.tar.gz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ahoma"/>
              </a:rPr>
              <a:t>執行初步設定：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ahoma"/>
              </a:rPr>
              <a:t>./setu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ahoma"/>
              </a:rPr>
              <a:t>接著在您的瀏覽器中執行：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 u="sng">
                <a:solidFill>
                  <a:srgbClr val="ff0000"/>
                </a:solidFill>
                <a:uFillTx/>
                <a:latin typeface="Tahoma"/>
              </a:rPr>
              <a:t>http://</a:t>
            </a:r>
            <a:r>
              <a:rPr b="0" lang="zh-TW" sz="2000" spc="-1" strike="noStrike" u="sng">
                <a:solidFill>
                  <a:srgbClr val="ff0000"/>
                </a:solidFill>
                <a:uFillTx/>
                <a:latin typeface="Tahoma"/>
              </a:rPr>
              <a:t>您的主機</a:t>
            </a:r>
            <a:r>
              <a:rPr b="0" lang="zh-TW" sz="2000" spc="-1" strike="noStrike" u="sng">
                <a:solidFill>
                  <a:srgbClr val="ff0000"/>
                </a:solidFill>
                <a:uFillTx/>
                <a:latin typeface="Tahoma"/>
              </a:rPr>
              <a:t>/sfs3/install.ph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ahoma"/>
              </a:rPr>
              <a:t>填妥相關設定，按 “安裝” 鈕，約幾秒之後，即可安裝成功。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333399"/>
                </a:solidFill>
                <a:latin typeface="Tahoma"/>
              </a:rPr>
              <a:t>修改 </a:t>
            </a:r>
            <a:r>
              <a:rPr b="0" lang="zh-TW" sz="4400" spc="-1" strike="noStrike">
                <a:solidFill>
                  <a:srgbClr val="333399"/>
                </a:solidFill>
                <a:latin typeface="Tahoma"/>
              </a:rPr>
              <a:t>/etc/apache/httpd.conf</a:t>
            </a:r>
            <a:r>
              <a:rPr b="0" lang="zh-TW" sz="5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1.  AddDefaultCharset on  </a:t>
            </a:r>
            <a:r>
              <a:rPr b="0" lang="zh-TW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 #AddDefaultCharset 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2.  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在檔尾加入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Alias /upfiles/ "/var/www/sfs3/data/"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&lt;Directory "/var/www/sfs3/data"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Options N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AllowOverride N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Order allow,den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Allow from 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&lt;/Directory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8T14:52:45Z</dcterms:created>
  <dc:creator>usr</dc:creator>
  <dc:description/>
  <dc:language>en-US</dc:language>
  <cp:lastModifiedBy>usr</cp:lastModifiedBy>
  <dcterms:modified xsi:type="dcterms:W3CDTF">2004-04-27T02:30:28Z</dcterms:modified>
  <cp:revision>14</cp:revision>
  <dc:subject/>
  <dc:title>自由軟體SFS3</dc:title>
</cp:coreProperties>
</file>