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4.png" ContentType="image/png"/>
  <Override PartName="/ppt/media/image11.jpeg" ContentType="image/jpeg"/>
  <Override PartName="/ppt/media/image8.png" ContentType="image/png"/>
  <Override PartName="/ppt/media/suction.wav" ContentType="audio/x-wav"/>
  <Override PartName="/ppt/media/image3.jpeg" ContentType="image/jpeg"/>
  <Override PartName="/ppt/media/image15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3.jpeg" ContentType="image/jpe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Times New Roman"/>
              </a:rPr>
              <a:t>Click to move the slide</a:t>
            </a: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0497C-1842-4F8D-909C-0213325629FB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99EF1-E197-4E94-898B-BFFFC53EAC91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31FED-1380-4862-A8C5-DCDD1270C24B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EA2ED-8A89-4A78-9637-C97D009EAAB2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FD04F-B63D-47EC-9069-09B1AA24AD59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DEBC0-FB67-4F39-9627-A42954FDC364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E21DB-AE8B-4D38-BB73-2361568EEC8D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D200C-ACE7-40DE-A8B4-D3B818367CCE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C8274-0F89-4459-8F25-9CD37A8BFE89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3597-38AD-4E48-A11B-C83A7FE71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077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120" y="3885840"/>
            <a:ext cx="8077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0BFC-3310-49BB-A09E-EEA7F91F7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3941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48400" y="1218960"/>
            <a:ext cx="3941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120" y="3885840"/>
            <a:ext cx="3941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48400" y="3885840"/>
            <a:ext cx="3941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BB71-ABA5-478A-94DB-0284B423C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260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0080" y="1218960"/>
            <a:ext cx="260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1400" y="1218960"/>
            <a:ext cx="260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120" y="3885840"/>
            <a:ext cx="260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0080" y="3885840"/>
            <a:ext cx="260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1400" y="3885840"/>
            <a:ext cx="260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A087-1AF9-4D94-8CB8-4E1D098DE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37BCE-570A-4464-9ED2-ACB9CB5FE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120" y="12189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C251C-2E61-4A7D-BF84-6E8FBA33A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66BFE-1EEE-4DE8-8CCC-85CF8D936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3941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48400" y="1218960"/>
            <a:ext cx="3941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07370-2F22-4912-9654-240328206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0EAB9-1838-4CA8-887B-9772FCBB3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37B2B-B31A-4B5F-A4BE-C6281249E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3941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48400" y="1218960"/>
            <a:ext cx="3941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120" y="3885840"/>
            <a:ext cx="3941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6C11F-73A1-4540-95B0-1B3FD3B4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120" y="12189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103A-D3FE-4742-9927-54570860E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3941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8400" y="1218960"/>
            <a:ext cx="3941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48400" y="3885840"/>
            <a:ext cx="3941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607E7-9AAB-4CD3-829F-97CBAFD0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3941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8400" y="1218960"/>
            <a:ext cx="3941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120" y="3885840"/>
            <a:ext cx="8077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C14E6-0C2E-4722-B191-15E450EE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077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120" y="3885840"/>
            <a:ext cx="8077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02E56-509A-417D-AD2A-375F08607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3941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8400" y="1218960"/>
            <a:ext cx="3941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120" y="3885840"/>
            <a:ext cx="3941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48400" y="3885840"/>
            <a:ext cx="3941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97518-148A-4A93-BEED-2DEBEF7E8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260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40080" y="1218960"/>
            <a:ext cx="260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71400" y="1218960"/>
            <a:ext cx="260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120" y="3885840"/>
            <a:ext cx="260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40080" y="3885840"/>
            <a:ext cx="260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71400" y="3885840"/>
            <a:ext cx="260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18826-2C5A-4DF8-A52B-B2C6DC05A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5CE9-2097-45A6-83C9-4F66854B2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3941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8400" y="1218960"/>
            <a:ext cx="3941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50CC-5AB1-4B44-9D77-0373E1674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A3F7-7737-4732-B863-00A9DDA0A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5A63-D700-4350-9FFF-912B32317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3941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8400" y="1218960"/>
            <a:ext cx="3941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120" y="3885840"/>
            <a:ext cx="3941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406B-5626-4B6A-B952-3D63CF72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3941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8400" y="1218960"/>
            <a:ext cx="3941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48400" y="3885840"/>
            <a:ext cx="3941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8932-7D17-4E34-BF7B-E545FFF0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3941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8400" y="1218960"/>
            <a:ext cx="3941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120" y="3885840"/>
            <a:ext cx="8077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6F95-5E71-41F7-A018-585E2C6E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120" y="12189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4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47D70-5F6B-4011-8F7B-B9241F26A9DD}" type="slidenum">
              <a:rPr b="0" lang="zh-TW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15328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00b5b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19047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4114800" y="6400800"/>
            <a:ext cx="2666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CB7A2-7202-4930-8B1F-26033338FD6A}" type="slidenum">
              <a:rPr b="0" lang="zh-TW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211.20.178.26/icct/crime/ReportDisplay.asp?TopicType=4&amp;sno=DHJEAI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www.cts.com.tw/wms/genasxnews.aspx?channel=1&amp;source=9604131900&amp;sno=006&amp;bandwidth=1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280" y="1413000"/>
            <a:ext cx="828684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00b5b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ff99"/>
                </a:solidFill>
                <a:latin typeface="華康中圓體"/>
              </a:rPr>
              <a:t>教師網路素養與認知</a:t>
            </a:r>
            <a:r>
              <a:rPr b="1" i="1" lang="zh-TW" sz="5400" spc="-1" strike="noStrike">
                <a:solidFill>
                  <a:srgbClr val="ffff99"/>
                </a:solidFill>
                <a:latin typeface="華康中圓體"/>
              </a:rPr>
              <a:t> </a:t>
            </a:r>
            <a:endParaRPr b="1" i="1" lang="en-US" sz="5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00000" y="3716280"/>
            <a:ext cx="743112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00b5b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cccc"/>
                </a:solidFill>
                <a:latin typeface="華康細圓體"/>
                <a:ea typeface="華康細圓體"/>
              </a:rPr>
              <a:t>主講人：南投縣網　王登儀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華康細圓體"/>
                <a:ea typeface="華康細圓體"/>
              </a:rPr>
              <a:t> </a:t>
            </a:r>
            <a:r>
              <a:rPr b="0" lang="zh-TW" sz="3500" spc="-1" strike="noStrike">
                <a:solidFill>
                  <a:srgbClr val="ffffff"/>
                </a:solidFill>
                <a:latin typeface="Times New Roman"/>
                <a:ea typeface="華康細圓體"/>
              </a:rPr>
              <a:t>時間地點：南投縣日月潭教師會館</a:t>
            </a:r>
            <a:r>
              <a:rPr b="0" lang="zh-TW" sz="3500" spc="-1" strike="noStrike">
                <a:solidFill>
                  <a:srgbClr val="ffffff"/>
                </a:solidFill>
                <a:latin typeface="Times New Roman"/>
                <a:ea typeface="華康細圓體"/>
              </a:rPr>
              <a:t>200</a:t>
            </a:r>
            <a:r>
              <a:rPr b="0" lang="en-US" sz="3500" spc="-1" strike="noStrike">
                <a:solidFill>
                  <a:srgbClr val="ffffff"/>
                </a:solidFill>
                <a:latin typeface="Times New Roman"/>
                <a:ea typeface="華康細圓體"/>
              </a:rPr>
              <a:t>8.5.8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Times New Roman"/>
              </a:rPr>
              <a:t>Shopping &amp; </a:t>
            </a:r>
            <a:r>
              <a:rPr b="1" i="1" lang="zh-TW" sz="4400" spc="-1" strike="noStrike">
                <a:solidFill>
                  <a:srgbClr val="ffff99"/>
                </a:solidFill>
                <a:latin typeface="Times New Roman"/>
              </a:rPr>
              <a:t>拍賣</a:t>
            </a: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68360" y="1082520"/>
            <a:ext cx="8362800" cy="57754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300720" y="0"/>
            <a:ext cx="2016360" cy="907920"/>
          </a:xfrm>
          <a:prstGeom prst="roundRect">
            <a:avLst>
              <a:gd name="adj" fmla="val 16667"/>
            </a:avLst>
          </a:pr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影片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jay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新球鞋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ff33cc"/>
                </a:solidFill>
                <a:latin typeface="Times New Roman"/>
              </a:rPr>
              <a:t>對日常生活產生影響</a:t>
            </a: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10920" y="1267920"/>
            <a:ext cx="3770280" cy="13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生活習慣的改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生活上運用選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947560" y="3068640"/>
            <a:ext cx="1437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eaeaea"/>
                </a:solidFill>
                <a:latin typeface="Times New Roman"/>
                <a:ea typeface="標楷體"/>
              </a:rPr>
              <a:t>網路購物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eaeaea"/>
                </a:solidFill>
                <a:latin typeface="Times New Roman"/>
                <a:ea typeface="標楷體"/>
              </a:rPr>
              <a:t>網路學習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eaeaea"/>
                </a:solidFill>
                <a:latin typeface="Times New Roman"/>
                <a:ea typeface="標楷體"/>
              </a:rPr>
              <a:t>網路聊天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eaeaea"/>
                </a:solidFill>
                <a:latin typeface="Times New Roman"/>
                <a:ea typeface="標楷體"/>
              </a:rPr>
              <a:t>網路遊戲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eaeaea"/>
                </a:solidFill>
                <a:latin typeface="Times New Roman"/>
                <a:ea typeface="標楷體"/>
              </a:rPr>
              <a:t>網路拜拜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eaeaea"/>
                </a:solidFill>
                <a:latin typeface="Times New Roman"/>
                <a:ea typeface="標楷體"/>
              </a:rPr>
              <a:t>網路轉帳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86880" y="3048120"/>
            <a:ext cx="1437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66"/>
                </a:solidFill>
                <a:latin typeface="Times New Roman"/>
                <a:ea typeface="標楷體"/>
              </a:rPr>
              <a:t>上街購物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66"/>
                </a:solidFill>
                <a:latin typeface="Times New Roman"/>
                <a:ea typeface="標楷體"/>
              </a:rPr>
              <a:t>學校學習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66"/>
                </a:solidFill>
                <a:latin typeface="Times New Roman"/>
                <a:ea typeface="標楷體"/>
              </a:rPr>
              <a:t>電話聊天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66"/>
                </a:solidFill>
                <a:latin typeface="Times New Roman"/>
                <a:ea typeface="標楷體"/>
              </a:rPr>
              <a:t>個人遊戲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66"/>
                </a:solidFill>
                <a:latin typeface="Times New Roman"/>
                <a:ea typeface="標楷體"/>
              </a:rPr>
              <a:t>廟會拜拜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66"/>
                </a:solidFill>
                <a:latin typeface="Times New Roman"/>
                <a:ea typeface="標楷體"/>
              </a:rPr>
              <a:t>銀行轉帳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64000" y="3284640"/>
            <a:ext cx="1800000" cy="288720"/>
          </a:xfrm>
          <a:custGeom>
            <a:avLst/>
            <a:gdLst>
              <a:gd name="textAreaLeft" fmla="*/ 281160 w 1800000"/>
              <a:gd name="textAreaRight" fmla="*/ 1575000 w 180000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64000" y="3860640"/>
            <a:ext cx="1800000" cy="289080"/>
          </a:xfrm>
          <a:custGeom>
            <a:avLst/>
            <a:gdLst>
              <a:gd name="textAreaLeft" fmla="*/ 281160 w 1800000"/>
              <a:gd name="textAreaRight" fmla="*/ 1575000 w 180000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64000" y="4365720"/>
            <a:ext cx="1800000" cy="288720"/>
          </a:xfrm>
          <a:custGeom>
            <a:avLst/>
            <a:gdLst>
              <a:gd name="textAreaLeft" fmla="*/ 281160 w 1800000"/>
              <a:gd name="textAreaRight" fmla="*/ 1575000 w 180000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64000" y="4941720"/>
            <a:ext cx="1800000" cy="289080"/>
          </a:xfrm>
          <a:custGeom>
            <a:avLst/>
            <a:gdLst>
              <a:gd name="textAreaLeft" fmla="*/ 281160 w 1800000"/>
              <a:gd name="textAreaRight" fmla="*/ 1575000 w 180000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35280" y="5516640"/>
            <a:ext cx="1800360" cy="288720"/>
          </a:xfrm>
          <a:custGeom>
            <a:avLst/>
            <a:gdLst>
              <a:gd name="textAreaLeft" fmla="*/ 281160 w 1800360"/>
              <a:gd name="textAreaRight" fmla="*/ 1575360 w 180036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635280" y="6021360"/>
            <a:ext cx="1800360" cy="289080"/>
          </a:xfrm>
          <a:custGeom>
            <a:avLst/>
            <a:gdLst>
              <a:gd name="textAreaLeft" fmla="*/ 281160 w 1800360"/>
              <a:gd name="textAreaRight" fmla="*/ 1575360 w 180036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cover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53760" y="273240"/>
            <a:ext cx="7988040" cy="82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99"/>
                </a:solidFill>
                <a:latin typeface="華康中特圓體"/>
                <a:ea typeface="華康中特圓體"/>
              </a:rPr>
              <a:t>參、網路禮節</a:t>
            </a:r>
            <a:endParaRPr b="1" i="1" lang="en-US" sz="5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09120" y="12189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華康中圓體"/>
              </a:rPr>
              <a:t>網路禮節乃譯自美國佛羅里達州亞特蘭堤大學的</a:t>
            </a:r>
            <a:r>
              <a:rPr b="0" lang="en-US" sz="3200" spc="-1" strike="noStrike">
                <a:solidFill>
                  <a:srgbClr val="ffffff"/>
                </a:solidFill>
                <a:latin typeface="華康中圓體"/>
              </a:rPr>
              <a:t>Arlene H. Rinaldi</a:t>
            </a:r>
            <a:r>
              <a:rPr b="0" lang="zh-TW" sz="3200" spc="-1" strike="noStrike">
                <a:solidFill>
                  <a:srgbClr val="ffffff"/>
                </a:solidFill>
                <a:latin typeface="華康中圓體"/>
              </a:rPr>
              <a:t>女士於其</a:t>
            </a:r>
            <a:r>
              <a:rPr b="0" lang="en-US" sz="3200" spc="-1" strike="noStrike">
                <a:solidFill>
                  <a:srgbClr val="ffffff"/>
                </a:solidFill>
                <a:latin typeface="華康中圓體"/>
              </a:rPr>
              <a:t>Netiquette HomePage</a:t>
            </a:r>
            <a:r>
              <a:rPr b="0" lang="zh-TW" sz="3200" spc="-1" strike="noStrike">
                <a:solidFill>
                  <a:srgbClr val="ffffff"/>
                </a:solidFill>
                <a:latin typeface="華康中圓體"/>
              </a:rPr>
              <a:t>網站上</a:t>
            </a:r>
            <a:r>
              <a:rPr b="0" lang="en-US" sz="3200" spc="-1" strike="noStrike">
                <a:solidFill>
                  <a:srgbClr val="ffffff"/>
                </a:solidFill>
                <a:latin typeface="華康中圓體"/>
              </a:rPr>
              <a:t>(http://www.fau.edu/rinaldi/netiquette.html)</a:t>
            </a:r>
            <a:r>
              <a:rPr b="0" lang="zh-TW" sz="3200" spc="-1" strike="noStrike">
                <a:solidFill>
                  <a:srgbClr val="ffffff"/>
                </a:solidFill>
                <a:latin typeface="華康中圓體"/>
              </a:rPr>
              <a:t>，所公佈名為「網路使用者指導原則與網路禮節</a:t>
            </a:r>
            <a:r>
              <a:rPr b="0" lang="en-US" sz="3200" spc="-1" strike="noStrike">
                <a:solidFill>
                  <a:srgbClr val="ffffff"/>
                </a:solidFill>
                <a:latin typeface="華康中圓體"/>
              </a:rPr>
              <a:t>(The Net</a:t>
            </a:r>
            <a:r>
              <a:rPr b="0" lang="zh-TW" sz="3200" spc="-1" strike="noStrike">
                <a:solidFill>
                  <a:srgbClr val="ffffff"/>
                </a:solidFill>
                <a:latin typeface="華康中圓體"/>
              </a:rPr>
              <a:t>：</a:t>
            </a:r>
            <a:r>
              <a:rPr b="0" lang="en-US" sz="3200" spc="-1" strike="noStrike">
                <a:solidFill>
                  <a:srgbClr val="ffffff"/>
                </a:solidFill>
                <a:latin typeface="華康中圓體"/>
              </a:rPr>
              <a:t>User Guidelines and Netiquette)</a:t>
            </a:r>
            <a:r>
              <a:rPr b="0" lang="zh-TW" sz="3200" spc="-1" strike="noStrike">
                <a:solidFill>
                  <a:srgbClr val="ffffff"/>
                </a:solidFill>
                <a:latin typeface="華康中圓體"/>
              </a:rPr>
              <a:t>」的文件，這份文件是</a:t>
            </a:r>
            <a:r>
              <a:rPr b="0" lang="en-US" sz="3200" spc="-1" strike="noStrike">
                <a:solidFill>
                  <a:srgbClr val="ffffff"/>
                </a:solidFill>
                <a:latin typeface="華康中圓體"/>
              </a:rPr>
              <a:t>Rinaldi</a:t>
            </a:r>
            <a:r>
              <a:rPr b="0" lang="zh-TW" sz="3200" spc="-1" strike="noStrike">
                <a:solidFill>
                  <a:srgbClr val="ffffff"/>
                </a:solidFill>
                <a:latin typeface="華康中圓體"/>
              </a:rPr>
              <a:t>女士多年來整理、研究並提倡網路文化及網路禮節的成果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4000" y="189000"/>
            <a:ext cx="806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cc66"/>
                </a:solidFill>
                <a:latin typeface="華康中特圓體"/>
                <a:ea typeface="華康中特圓體"/>
              </a:rPr>
              <a:t>網路禮儀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1484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華康儷粗黑(P)"/>
                <a:ea typeface="華康儷粗黑(P)"/>
              </a:rPr>
              <a:t>網路禮儀即網路世界中的規範，讓使用者能進行理性互動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47920" y="2971800"/>
            <a:ext cx="6019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標楷體"/>
                <a:ea typeface="標楷體"/>
              </a:rPr>
              <a:t>1.</a:t>
            </a:r>
            <a:r>
              <a:rPr b="1" lang="zh-TW" sz="4000" spc="-1" strike="noStrike">
                <a:solidFill>
                  <a:srgbClr val="ffff66"/>
                </a:solidFill>
                <a:latin typeface="標楷體"/>
                <a:ea typeface="標楷體"/>
              </a:rPr>
              <a:t>對他人保持尊重的態度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標楷體"/>
                <a:ea typeface="標楷體"/>
              </a:rPr>
              <a:t>2.</a:t>
            </a:r>
            <a:r>
              <a:rPr b="1" lang="zh-TW" sz="4000" spc="-1" strike="noStrike">
                <a:solidFill>
                  <a:srgbClr val="ffff66"/>
                </a:solidFill>
                <a:latin typeface="標楷體"/>
                <a:ea typeface="標楷體"/>
              </a:rPr>
              <a:t>尊重他人隱私權。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標楷體"/>
                <a:ea typeface="標楷體"/>
              </a:rPr>
              <a:t>3.</a:t>
            </a:r>
            <a:r>
              <a:rPr b="1" lang="zh-TW" sz="4000" spc="-1" strike="noStrike">
                <a:solidFill>
                  <a:srgbClr val="ffff66"/>
                </a:solidFill>
                <a:latin typeface="標楷體"/>
                <a:ea typeface="標楷體"/>
              </a:rPr>
              <a:t>避免在網路相批評。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標楷體"/>
                <a:ea typeface="標楷體"/>
              </a:rPr>
              <a:t>4.</a:t>
            </a:r>
            <a:r>
              <a:rPr b="1" lang="zh-TW" sz="4000" spc="-1" strike="noStrike">
                <a:solidFill>
                  <a:srgbClr val="ffff66"/>
                </a:solidFill>
                <a:latin typeface="標楷體"/>
                <a:ea typeface="標楷體"/>
              </a:rPr>
              <a:t>尊重他人的著作權等。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162920" y="4419720"/>
            <a:ext cx="1676160" cy="16761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ffff99"/>
                </a:solidFill>
                <a:latin typeface="華康中特圓體"/>
                <a:ea typeface="華康中特圓體"/>
              </a:rPr>
              <a:t>一、</a:t>
            </a:r>
            <a:r>
              <a:rPr b="1" i="1" lang="zh-TW" sz="4400" spc="-1" strike="noStrike" u="sng">
                <a:solidFill>
                  <a:srgbClr val="ffff99"/>
                </a:solidFill>
                <a:uFillTx/>
                <a:latin typeface="華康中特圓體"/>
                <a:ea typeface="華康中特圓體"/>
              </a:rPr>
              <a:t>言論</a:t>
            </a:r>
            <a:r>
              <a:rPr b="1" i="1" lang="zh-TW" sz="4400" spc="-1" strike="noStrike">
                <a:solidFill>
                  <a:srgbClr val="ffff99"/>
                </a:solidFill>
                <a:latin typeface="華康中特圓體"/>
                <a:ea typeface="華康中特圓體"/>
              </a:rPr>
              <a:t>：</a:t>
            </a: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218960"/>
            <a:ext cx="8534160" cy="47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華康中特圓體"/>
                <a:ea typeface="華康中特圓體"/>
              </a:rPr>
              <a:t>　　　由於網路是一個開放的空間，而使用者又具有匿名性特質，社會規範首先有一般性的規範，如</a:t>
            </a:r>
            <a:r>
              <a:rPr b="0" lang="zh-TW" sz="3200" spc="-1" strike="noStrike">
                <a:solidFill>
                  <a:srgbClr val="ff33cc"/>
                </a:solidFill>
                <a:latin typeface="華康中特圓體"/>
                <a:ea typeface="華康中特圓體"/>
              </a:rPr>
              <a:t>文字簡潔清楚</a:t>
            </a:r>
            <a:r>
              <a:rPr b="0" lang="zh-TW" sz="3200" spc="-1" strike="noStrike">
                <a:solidFill>
                  <a:srgbClr val="ffffff"/>
                </a:solidFill>
                <a:latin typeface="華康中特圓體"/>
                <a:ea typeface="華康中特圓體"/>
              </a:rPr>
              <a:t>、盡量</a:t>
            </a:r>
            <a:r>
              <a:rPr b="0" lang="zh-TW" sz="3200" spc="-1" strike="noStrike">
                <a:solidFill>
                  <a:srgbClr val="ff33cc"/>
                </a:solidFill>
                <a:latin typeface="華康中特圓體"/>
                <a:ea typeface="華康中特圓體"/>
              </a:rPr>
              <a:t>少使用語意難辨的注音文</a:t>
            </a:r>
            <a:r>
              <a:rPr b="0" lang="zh-TW" sz="3200" spc="-1" strike="noStrike">
                <a:solidFill>
                  <a:srgbClr val="ffffff"/>
                </a:solidFill>
                <a:latin typeface="華康中特圓體"/>
                <a:ea typeface="華康中特圓體"/>
              </a:rPr>
              <a:t>等，這些基本規範看來簡單，但在網路隔著螢幕互對的溝通環境中，</a:t>
            </a:r>
            <a:r>
              <a:rPr b="1" lang="zh-TW" sz="3200" spc="-1" strike="noStrike">
                <a:solidFill>
                  <a:srgbClr val="ffccff"/>
                </a:solidFill>
                <a:latin typeface="華康中特圓體"/>
                <a:ea typeface="華康中特圓體"/>
              </a:rPr>
              <a:t>「表達清楚」</a:t>
            </a:r>
            <a:r>
              <a:rPr b="0" lang="zh-TW" sz="3200" spc="-1" strike="noStrike">
                <a:solidFill>
                  <a:srgbClr val="ffffff"/>
                </a:solidFill>
                <a:latin typeface="華康中特圓體"/>
                <a:ea typeface="華康中特圓體"/>
              </a:rPr>
              <a:t>是非常重要的。遵守這些基本規範，可以使表達簡單易懂，而不易造成誤會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華康中特圓體"/>
                <a:ea typeface="華康中特圓體"/>
              </a:rPr>
              <a:t>　　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68360" y="549360"/>
            <a:ext cx="8064360" cy="44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華康中特圓體"/>
                <a:ea typeface="華康中特圓體"/>
              </a:rPr>
              <a:t>另外，網路上的言論有幾個特別需要注意與遵守的規範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華康中特圓體"/>
                <a:ea typeface="華康中特圓體"/>
              </a:rPr>
              <a:t>應該要尊重他人，切忌出現揭露他人隱私的言論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華康中特圓體"/>
                <a:ea typeface="華康中特圓體"/>
              </a:rPr>
              <a:t>不宜在網路上不經當事人同意公布他人資料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華康中特圓體"/>
                <a:ea typeface="華康中特圓體"/>
              </a:rPr>
              <a:t>在網路互動上不要使用過度激烈的言詞，以免造成謾罵攻擊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華康中特圓體"/>
                <a:ea typeface="華康中特圓體"/>
              </a:rPr>
              <a:t>不可在網路上散佈謠言，若有謠言傳來，也要要求自己當一個停止謠言的智者，不轉寄謠言信件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ffff99"/>
                </a:solidFill>
                <a:latin typeface="華康中特圓體"/>
                <a:ea typeface="華康中特圓體"/>
              </a:rPr>
              <a:t>二、使用者禮儀：</a:t>
            </a: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0769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華康中特圓體"/>
                <a:ea typeface="華康中特圓體"/>
              </a:rPr>
              <a:t>　　　在使用網路的過程，有幾個特別需要注意的規範，是建立在</a:t>
            </a:r>
            <a:r>
              <a:rPr b="1" lang="zh-TW" sz="3200" spc="-1" strike="noStrike">
                <a:solidFill>
                  <a:srgbClr val="ff33cc"/>
                </a:solidFill>
                <a:latin typeface="華康中特圓體"/>
                <a:ea typeface="華康中特圓體"/>
              </a:rPr>
              <a:t>「不僅讓自己使用網路方便，也使他人使用網路自在」</a:t>
            </a:r>
            <a:r>
              <a:rPr b="0" lang="zh-TW" sz="3200" spc="-1" strike="noStrike">
                <a:solidFill>
                  <a:srgbClr val="ffffff"/>
                </a:solidFill>
                <a:latin typeface="華康中特圓體"/>
                <a:ea typeface="華康中特圓體"/>
              </a:rPr>
              <a:t>的互重基礎上。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華康中特圓體"/>
                <a:ea typeface="華康中特圓體"/>
              </a:rPr>
              <a:t>1.</a:t>
            </a:r>
            <a:r>
              <a:rPr b="0" lang="zh-TW" sz="3200" spc="-1" strike="noStrike">
                <a:solidFill>
                  <a:srgbClr val="ffffff"/>
                </a:solidFill>
                <a:latin typeface="華康中特圓體"/>
                <a:ea typeface="華康中特圓體"/>
              </a:rPr>
              <a:t>首先是「頻寬」，使用網路時，若頻寬與他人共享，在使用上要特別注意傳送檔案大小。若多人使用網路、頻寬擁擠時，不宜傳送或下載大型檔案，而利用網路不繁忙的時候進行。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09120" y="12189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華康中特圓體"/>
                <a:ea typeface="華康中特圓體"/>
              </a:rPr>
              <a:t>　</a:t>
            </a:r>
            <a:r>
              <a:rPr b="0" lang="en-US" sz="3200" spc="-1" strike="noStrike">
                <a:solidFill>
                  <a:srgbClr val="ffffff"/>
                </a:solidFill>
                <a:latin typeface="華康中特圓體"/>
                <a:ea typeface="華康中特圓體"/>
              </a:rPr>
              <a:t>2.</a:t>
            </a:r>
            <a:r>
              <a:rPr b="0" lang="zh-TW" sz="3200" spc="-1" strike="noStrike">
                <a:solidFill>
                  <a:srgbClr val="ffffff"/>
                </a:solidFill>
                <a:latin typeface="華康中特圓體"/>
                <a:ea typeface="華康中特圓體"/>
              </a:rPr>
              <a:t>再者，在網路上與人互動時，若對方打字動作慢、語法有誤，應表現友善的態度，包容網路新手，並可協助對方逐漸熟悉網路操作。切忌嘲笑對方，甚至將之公諸於網路上，這是非常不道德的行為。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華康中特圓體"/>
                <a:ea typeface="華康中特圓體"/>
              </a:rPr>
              <a:t>3.</a:t>
            </a:r>
            <a:r>
              <a:rPr b="0" lang="zh-TW" sz="3200" spc="-1" strike="noStrike">
                <a:solidFill>
                  <a:srgbClr val="ffffff"/>
                </a:solidFill>
                <a:latin typeface="華康中特圓體"/>
                <a:ea typeface="華康中特圓體"/>
              </a:rPr>
              <a:t>網路是一個互動的園地，同時也是一個資訊交流的場域，因此若有人在網路上提問，應就自己的能力所及盡可能分享知識與經驗。使這個資訊交流的場域豐富且人人受益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ffff99"/>
                </a:solidFill>
                <a:latin typeface="華康中特圓體"/>
                <a:ea typeface="華康中特圓體"/>
              </a:rPr>
              <a:t>三、法律界線：</a:t>
            </a: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5330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TW" sz="3200" spc="-1" strike="noStrike">
                <a:solidFill>
                  <a:srgbClr val="ffffff"/>
                </a:solidFill>
                <a:latin typeface="華康中特圓體"/>
                <a:ea typeface="華康中特圓體"/>
              </a:rPr>
              <a:t>　　在網路上，因為資訊流通方便，又因匿名性使約束力量減低，因此很容易就觸犯法律。有幾個法律界線是要特別注意的：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華康中特圓體"/>
                <a:ea typeface="華康中特圓體"/>
              </a:rPr>
              <a:t>(1)</a:t>
            </a:r>
            <a:r>
              <a:rPr b="0" lang="zh-TW" sz="3200" spc="-1" strike="noStrike">
                <a:solidFill>
                  <a:srgbClr val="ff0000"/>
                </a:solidFill>
                <a:latin typeface="華康中特圓體"/>
                <a:ea typeface="華康中特圓體"/>
              </a:rPr>
              <a:t>隱私權</a:t>
            </a:r>
            <a:r>
              <a:rPr b="0" lang="zh-TW" sz="3200" spc="-1" strike="noStrike">
                <a:solidFill>
                  <a:srgbClr val="ffffff"/>
                </a:solidFill>
                <a:latin typeface="華康中特圓體"/>
                <a:ea typeface="華康中特圓體"/>
              </a:rPr>
              <a:t>：儘管網路無界限，然而在網路上每個人仍有其使用隱私權，絕不可侵入他人使用介面如電腦系統、電子郵件等，不管是窺探或竊取資料，都會造成侵犯隱私權的法律問題。另外，不經他人同意散佈他人隱私資料或個人資訊，也觸犯隱私權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8920" y="1052280"/>
            <a:ext cx="85330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TW" sz="3200" spc="-1" strike="noStrike">
                <a:solidFill>
                  <a:srgbClr val="ffffff"/>
                </a:solidFill>
                <a:latin typeface="華康中特圓體"/>
                <a:ea typeface="華康中特圓體"/>
              </a:rPr>
              <a:t>　　</a:t>
            </a:r>
            <a:r>
              <a:rPr b="0" lang="en-US" sz="3200" spc="-1" strike="noStrike">
                <a:solidFill>
                  <a:srgbClr val="ffffff"/>
                </a:solidFill>
                <a:latin typeface="華康中特圓體"/>
                <a:ea typeface="華康中特圓體"/>
              </a:rPr>
              <a:t>(2)</a:t>
            </a:r>
            <a:r>
              <a:rPr b="0" lang="zh-TW" sz="3200" spc="-1" strike="noStrike">
                <a:solidFill>
                  <a:srgbClr val="ff0000"/>
                </a:solidFill>
                <a:latin typeface="華康中特圓體"/>
                <a:ea typeface="華康中特圓體"/>
              </a:rPr>
              <a:t>著作權</a:t>
            </a:r>
            <a:r>
              <a:rPr b="0" lang="zh-TW" sz="3200" spc="-1" strike="noStrike">
                <a:solidFill>
                  <a:srgbClr val="ffffff"/>
                </a:solidFill>
                <a:latin typeface="華康中特圓體"/>
                <a:ea typeface="華康中特圓體"/>
              </a:rPr>
              <a:t>：因網路空間無限，因此各式資訊如影音、文字資料的流傳都十分方便，切忌任意下載檔案，或不經他人同意轉載轉錄他人言論、文字等，這將會構成侵犯著作權的犯行。轉錄他人文章或言論時，一定要經作者同意並註明出處；而下載行為則不得做商業用途等，都要特別注意。 </a:t>
            </a:r>
            <a:br>
              <a:rPr sz="3200"/>
            </a:br>
            <a:br>
              <a:rPr sz="3200"/>
            </a:br>
            <a:r>
              <a:rPr b="0" lang="zh-TW" sz="3200" spc="-1" strike="noStrike">
                <a:solidFill>
                  <a:srgbClr val="ffffff"/>
                </a:solidFill>
                <a:latin typeface="華康中特圓體"/>
                <a:ea typeface="華康中特圓體"/>
              </a:rPr>
              <a:t>　　另外，在網路上散佈不實言論，而造成他人名譽上的損傷，則容易造成誹謗罪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99"/>
                </a:solidFill>
                <a:latin typeface="華康中特圓體"/>
                <a:ea typeface="華康中特圓體"/>
              </a:rPr>
              <a:t>壹、何謂網路素養 </a:t>
            </a:r>
            <a:endParaRPr b="1" i="1" lang="en-US" sz="5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807696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網路素養是個人利用資訊網路與外界做合情、合理、合法而有效的溝通和互動所需具備的條件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99"/>
                </a:solidFill>
                <a:latin typeface="華康中特圓體"/>
                <a:ea typeface="華康中特圓體"/>
              </a:rPr>
              <a:t>肆、網路的犯罪行為</a:t>
            </a:r>
            <a:endParaRPr b="1" i="1" lang="en-US" sz="5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788832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華康中圓體"/>
              </a:rPr>
              <a:t>網路媒介傳佈色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華康中圓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華康中圓體"/>
              </a:rPr>
              <a:t>設立色情網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華康中圓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華康中圓體"/>
              </a:rPr>
              <a:t>一夜情交易中心，媒介或自行設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華康中圓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華康中圓體"/>
              </a:rPr>
              <a:t>網路一夜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華康中圓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華康中圓體"/>
              </a:rPr>
              <a:t>銷售色情光碟影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華康中圓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華康中圓體"/>
              </a:rPr>
              <a:t>聊天網站或其他方式進行援助交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33cc"/>
              </a:buClr>
              <a:buFont typeface="華康中圓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33cc"/>
                </a:solidFill>
                <a:latin typeface="華康中圓體"/>
              </a:rPr>
              <a:t>自拍、情色貼圖公然猥褻 散播情色資訊於網路聊天室間或公眾領域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ffff99"/>
                </a:solidFill>
                <a:latin typeface="Times New Roman"/>
              </a:rPr>
              <a:t>網路的犯罪行為</a:t>
            </a:r>
            <a:r>
              <a:rPr b="1" i="1" lang="en-US" sz="4400" spc="-1" strike="noStrike">
                <a:solidFill>
                  <a:srgbClr val="ffff99"/>
                </a:solidFill>
                <a:latin typeface="Times New Roman"/>
              </a:rPr>
              <a:t>(cont.)</a:t>
            </a: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華康中圓體"/>
              </a:rPr>
              <a:t>網路販賣違禁、管制物品、盜版光碟、贓物、侵犯他人著作權及商標權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華康中圓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66"/>
                </a:solidFill>
                <a:latin typeface="華康中圓體"/>
              </a:rPr>
              <a:t>例如：在網路上販賣：</a:t>
            </a:r>
            <a:r>
              <a:rPr b="0" lang="en-US" sz="3200" spc="-1" strike="noStrike">
                <a:solidFill>
                  <a:srgbClr val="ffff66"/>
                </a:solidFill>
                <a:latin typeface="華康中圓體"/>
              </a:rPr>
              <a:t>FM2</a:t>
            </a:r>
            <a:r>
              <a:rPr b="0" lang="zh-TW" sz="3200" spc="-1" strike="noStrike">
                <a:solidFill>
                  <a:srgbClr val="ffff66"/>
                </a:solidFill>
                <a:latin typeface="華康中圓體"/>
              </a:rPr>
              <a:t>、搖頭丸、毒品、其他禁藥、賣槍；盜版光碟：如俗稱泡麵或大補帖的盜版光碟、電影</a:t>
            </a:r>
            <a:r>
              <a:rPr b="0" lang="en-US" sz="3200" spc="-1" strike="noStrike">
                <a:solidFill>
                  <a:srgbClr val="ffff66"/>
                </a:solidFill>
                <a:latin typeface="華康中圓體"/>
              </a:rPr>
              <a:t>VCD</a:t>
            </a:r>
            <a:r>
              <a:rPr b="0" lang="zh-TW" sz="3200" spc="-1" strike="noStrike">
                <a:solidFill>
                  <a:srgbClr val="ffff66"/>
                </a:solidFill>
                <a:latin typeface="華康中圓體"/>
              </a:rPr>
              <a:t>或音樂</a:t>
            </a:r>
            <a:r>
              <a:rPr b="0" lang="en-US" sz="3200" spc="-1" strike="noStrike">
                <a:solidFill>
                  <a:srgbClr val="ffff66"/>
                </a:solidFill>
                <a:latin typeface="華康中圓體"/>
              </a:rPr>
              <a:t>CD</a:t>
            </a:r>
            <a:r>
              <a:rPr b="0" lang="zh-TW" sz="3200" spc="-1" strike="noStrike">
                <a:solidFill>
                  <a:srgbClr val="ffff66"/>
                </a:solidFill>
                <a:latin typeface="華康中圓體"/>
              </a:rPr>
              <a:t>等、贓物、仿冒品、交易偽鈔 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華康中圓體"/>
              </a:rPr>
              <a:t>教唆他人犯罪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華康中圓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66"/>
                </a:solidFill>
                <a:latin typeface="華康中圓體"/>
              </a:rPr>
              <a:t>例如：軍火教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華康中圓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66"/>
                </a:solidFill>
                <a:latin typeface="華康中圓體"/>
              </a:rPr>
              <a:t>例如：自殺手冊</a:t>
            </a:r>
            <a:r>
              <a:rPr b="0" lang="zh-TW" sz="3200" spc="-1" strike="noStrike">
                <a:solidFill>
                  <a:srgbClr val="ffffff"/>
                </a:solidFill>
                <a:latin typeface="華康中圓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ffff99"/>
                </a:solidFill>
                <a:latin typeface="Times New Roman"/>
              </a:rPr>
              <a:t>網路的犯罪行為</a:t>
            </a:r>
            <a:r>
              <a:rPr b="1" i="1" lang="en-US" sz="4400" spc="-1" strike="noStrike">
                <a:solidFill>
                  <a:srgbClr val="ffff99"/>
                </a:solidFill>
                <a:latin typeface="Times New Roman"/>
              </a:rPr>
              <a:t>(cont.)</a:t>
            </a: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華康中圓體"/>
              </a:rPr>
              <a:t>網路詐欺</a:t>
            </a:r>
            <a:br>
              <a:rPr sz="3200"/>
            </a:br>
            <a:r>
              <a:rPr b="0" lang="zh-TW" sz="2800" spc="-1" strike="noStrike">
                <a:solidFill>
                  <a:srgbClr val="ffff66"/>
                </a:solidFill>
                <a:latin typeface="華康中圓體"/>
              </a:rPr>
              <a:t>例如：網路銷售商品，收錢沒送貨</a:t>
            </a:r>
            <a:r>
              <a:rPr b="0" lang="zh-TW" sz="3200" spc="-1" strike="noStrike">
                <a:solidFill>
                  <a:srgbClr val="ffffff"/>
                </a:solidFill>
                <a:latin typeface="華康中圓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華康中圓體"/>
              </a:rPr>
              <a:t>網路恐嚇</a:t>
            </a:r>
            <a:br>
              <a:rPr sz="3200"/>
            </a:br>
            <a:r>
              <a:rPr b="0" lang="zh-TW" sz="2800" spc="-1" strike="noStrike">
                <a:solidFill>
                  <a:srgbClr val="ffff66"/>
                </a:solidFill>
                <a:latin typeface="華康中圓體"/>
              </a:rPr>
              <a:t>例如：網路千面人</a:t>
            </a:r>
            <a:r>
              <a:rPr b="0" lang="zh-TW" sz="3200" spc="-1" strike="noStrike">
                <a:solidFill>
                  <a:srgbClr val="ffffff"/>
                </a:solidFill>
                <a:latin typeface="華康中圓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華康中圓體"/>
              </a:rPr>
              <a:t>毀謗侮辱 妨害名譽</a:t>
            </a:r>
            <a:r>
              <a:rPr b="0" lang="en-US" sz="3200" spc="-1" strike="noStrike">
                <a:solidFill>
                  <a:srgbClr val="ffffff"/>
                </a:solidFill>
                <a:latin typeface="華康中圓體"/>
              </a:rPr>
              <a:t>(</a:t>
            </a:r>
            <a:r>
              <a:rPr b="0" lang="zh-TW" sz="3200" spc="-1" strike="noStrike">
                <a:solidFill>
                  <a:srgbClr val="ffffff"/>
                </a:solidFill>
                <a:latin typeface="華康中圓體"/>
              </a:rPr>
              <a:t>偽造文書</a:t>
            </a:r>
            <a:r>
              <a:rPr b="0" lang="en-US" sz="3200" spc="-1" strike="noStrike">
                <a:solidFill>
                  <a:srgbClr val="ffffff"/>
                </a:solidFill>
                <a:latin typeface="華康中圓體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華康中圓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66"/>
                </a:solidFill>
                <a:latin typeface="華康中圓體"/>
              </a:rPr>
              <a:t>公佈電話、地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華康中圓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66"/>
                </a:solidFill>
                <a:latin typeface="華康中圓體"/>
              </a:rPr>
              <a:t>公佈電子郵件帳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華康中圓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66"/>
                </a:solidFill>
                <a:latin typeface="華康中圓體"/>
              </a:rPr>
              <a:t>散佈寫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華康中圓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66"/>
                </a:solidFill>
                <a:latin typeface="華康中圓體"/>
              </a:rPr>
              <a:t>移植明星照片</a:t>
            </a:r>
            <a:r>
              <a:rPr b="0" lang="zh-TW" sz="2800" spc="-1" strike="noStrike">
                <a:solidFill>
                  <a:srgbClr val="ffffff"/>
                </a:solidFill>
                <a:latin typeface="華康中圓體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ffff99"/>
                </a:solidFill>
                <a:latin typeface="Times New Roman"/>
              </a:rPr>
              <a:t>網路的犯罪行為</a:t>
            </a:r>
            <a:r>
              <a:rPr b="1" i="1" lang="en-US" sz="4400" spc="-1" strike="noStrike">
                <a:solidFill>
                  <a:srgbClr val="ffff99"/>
                </a:solidFill>
                <a:latin typeface="Times New Roman"/>
              </a:rPr>
              <a:t>(cont.)</a:t>
            </a: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華康中圓體"/>
              </a:rPr>
              <a:t>駭客侵入與散佈電腦病毒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華康中圓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66"/>
                </a:solidFill>
                <a:latin typeface="華康中圓體"/>
              </a:rPr>
              <a:t>截取銀行帳號，密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華康中圓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66"/>
                </a:solidFill>
                <a:latin typeface="華康中圓體"/>
              </a:rPr>
              <a:t>截取其他個人隱私資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華康中圓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66"/>
                </a:solidFill>
                <a:latin typeface="華康中圓體"/>
              </a:rPr>
              <a:t>金融犯罪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華康中圓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66"/>
                </a:solidFill>
                <a:latin typeface="華康中圓體"/>
              </a:rPr>
              <a:t>木馬程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華康中圓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66"/>
                </a:solidFill>
                <a:latin typeface="華康中圓體"/>
              </a:rPr>
              <a:t>窺伺資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華康中圓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66"/>
                </a:solidFill>
                <a:latin typeface="華康中圓體"/>
              </a:rPr>
              <a:t>破壞或移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華康中圓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66"/>
                </a:solidFill>
                <a:latin typeface="華康中圓體"/>
              </a:rPr>
              <a:t>駭客大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華康中圓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66"/>
                </a:solidFill>
                <a:latin typeface="華康中圓體"/>
              </a:rPr>
              <a:t>散佈電腦病毒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ffff99"/>
                </a:solidFill>
                <a:latin typeface="Times New Roman"/>
              </a:rPr>
              <a:t>網路的犯罪行為</a:t>
            </a:r>
            <a:r>
              <a:rPr b="1" i="1" lang="en-US" sz="4400" spc="-1" strike="noStrike">
                <a:solidFill>
                  <a:srgbClr val="ffff99"/>
                </a:solidFill>
                <a:latin typeface="Times New Roman"/>
              </a:rPr>
              <a:t>(cont.)</a:t>
            </a: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華康中圓體"/>
              </a:rPr>
              <a:t>網路賭博</a:t>
            </a:r>
            <a:br>
              <a:rPr sz="4400"/>
            </a:br>
            <a:r>
              <a:rPr b="0" lang="zh-TW" sz="4400" spc="-1" strike="noStrike">
                <a:solidFill>
                  <a:srgbClr val="ffffff"/>
                </a:solidFill>
                <a:latin typeface="華康中圓體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ff66"/>
              </a:buClr>
              <a:buFont typeface="華康中圓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66"/>
                </a:solidFill>
                <a:latin typeface="華康中圓體"/>
              </a:rPr>
              <a:t>例如：在網路上架設網頁，並提供賭博網站之功能，連續公然煽惑不特定之人上網賭博財物犯罪。</a:t>
            </a:r>
            <a:r>
              <a:rPr b="0" lang="zh-TW" sz="4000" spc="-1" strike="noStrike">
                <a:solidFill>
                  <a:srgbClr val="ffffff"/>
                </a:solidFill>
                <a:latin typeface="華康中圓體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04920" y="2743200"/>
            <a:ext cx="6172200" cy="3429000"/>
          </a:xfrm>
          <a:prstGeom prst="rect">
            <a:avLst/>
          </a:prstGeom>
          <a:ln w="0">
            <a:noFill/>
          </a:ln>
        </p:spPr>
      </p:pic>
      <p:grpSp>
        <p:nvGrpSpPr>
          <p:cNvPr id="151" name=""/>
          <p:cNvGrpSpPr/>
          <p:nvPr/>
        </p:nvGrpSpPr>
        <p:grpSpPr>
          <a:xfrm>
            <a:off x="0" y="3306600"/>
            <a:ext cx="9145440" cy="360"/>
            <a:chOff x="0" y="3306600"/>
            <a:chExt cx="9145440" cy="360"/>
          </a:xfrm>
        </p:grpSpPr>
        <p:sp>
          <p:nvSpPr>
            <p:cNvPr id="152" name=""/>
            <p:cNvSpPr/>
            <p:nvPr/>
          </p:nvSpPr>
          <p:spPr>
            <a:xfrm>
              <a:off x="0" y="3306600"/>
              <a:ext cx="914544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0" y="3306600"/>
              <a:ext cx="914544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914400" y="228600"/>
            <a:ext cx="38862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c8003"/>
                </a:solidFill>
                <a:latin typeface="標楷體"/>
                <a:ea typeface="標楷體"/>
              </a:rPr>
              <a:t>案例討論</a:t>
            </a: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c8003"/>
                </a:solidFill>
                <a:latin typeface="標楷體"/>
                <a:ea typeface="標楷體"/>
              </a:rPr>
              <a:t>竊盜天堂寶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85800" y="1447920"/>
            <a:ext cx="4204080" cy="119124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標楷體"/>
                <a:ea typeface="標楷體"/>
              </a:rPr>
              <a:t>小宏知道小華的天堂帳號，而利用網路咖啡將小華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標楷體"/>
                <a:ea typeface="標楷體"/>
              </a:rPr>
              <a:t>天堂遊戲道具轉入自己帳號內，再轉賣給小琪賺得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標楷體"/>
                <a:ea typeface="標楷體"/>
              </a:rPr>
              <a:t>現金兩萬元。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705720" y="2057400"/>
            <a:ext cx="2133360" cy="4648320"/>
          </a:xfrm>
          <a:prstGeom prst="irregularSeal1">
            <a:avLst/>
          </a:prstGeom>
          <a:solidFill>
            <a:srgbClr val="eeb00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95840" y="3243240"/>
            <a:ext cx="729000" cy="19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66"/>
                </a:solidFill>
                <a:latin typeface="Times New Roman"/>
                <a:ea typeface="標楷體"/>
              </a:rPr>
              <a:t>竊盜罪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cover dir="r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67560" y="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Times New Roman"/>
                <a:ea typeface="標楷體"/>
              </a:rPr>
              <a:t>案例討論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990720"/>
            <a:ext cx="9144000" cy="137376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標楷體"/>
                <a:ea typeface="標楷體"/>
              </a:rPr>
              <a:t>小宏</a:t>
            </a:r>
            <a:r>
              <a:rPr b="0" lang="zh-TW" sz="2800" spc="-1" strike="noStrike">
                <a:solidFill>
                  <a:srgbClr val="eaeaea"/>
                </a:solidFill>
                <a:latin typeface="標楷體"/>
                <a:ea typeface="標楷體"/>
              </a:rPr>
              <a:t>利用電子郵件暗藏「鍵盤側錄木馬程式」。讓小熊在不知情的情況下被「鍵盤側錄木馬程式」植入自己的電腦中，以致於</a:t>
            </a:r>
            <a:r>
              <a:rPr b="1" lang="zh-TW" sz="2800" spc="-1" strike="noStrike">
                <a:solidFill>
                  <a:srgbClr val="eaeaea"/>
                </a:solidFill>
                <a:latin typeface="標楷體"/>
                <a:ea typeface="標楷體"/>
              </a:rPr>
              <a:t>小熊</a:t>
            </a:r>
            <a:r>
              <a:rPr b="0" lang="zh-TW" sz="2800" spc="-1" strike="noStrike">
                <a:solidFill>
                  <a:srgbClr val="eaeaea"/>
                </a:solidFill>
                <a:latin typeface="標楷體"/>
                <a:ea typeface="標楷體"/>
              </a:rPr>
              <a:t>每次上「地獄」遊戲網站輸入自己的使用者帳號與個人密碼時，遭到該木馬程式的側錄，並且自動透過電子郵件的系統，將該使用者帳號及個人密碼，寄送至小宏的電子郵件信箱內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標楷體"/>
                <a:ea typeface="標楷體"/>
              </a:rPr>
              <a:t>小宏</a:t>
            </a:r>
            <a:r>
              <a:rPr b="0" lang="zh-TW" sz="2800" spc="-1" strike="noStrike">
                <a:solidFill>
                  <a:srgbClr val="eaeaea"/>
                </a:solidFill>
                <a:latin typeface="標楷體"/>
                <a:ea typeface="標楷體"/>
              </a:rPr>
              <a:t>因而不費吹灰之力，取得</a:t>
            </a:r>
            <a:r>
              <a:rPr b="1" lang="zh-TW" sz="2800" spc="-1" strike="noStrike">
                <a:solidFill>
                  <a:srgbClr val="eaeaea"/>
                </a:solidFill>
                <a:latin typeface="標楷體"/>
                <a:ea typeface="標楷體"/>
              </a:rPr>
              <a:t>小熊</a:t>
            </a:r>
            <a:r>
              <a:rPr b="0" lang="zh-TW" sz="2800" spc="-1" strike="noStrike">
                <a:solidFill>
                  <a:srgbClr val="eaeaea"/>
                </a:solidFill>
                <a:latin typeface="標楷體"/>
                <a:ea typeface="標楷體"/>
              </a:rPr>
              <a:t>的使用者帳號和個人密碼後，登入「地獄」遊戲網站，將小熊所擁有的「飛刀」、「斗篷」、「力量手套」等虛擬寶物，全部都轉移到自己在「地獄」遊戲中的使用者帳號內，變成是個人的虛擬寶物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90720" y="6340320"/>
            <a:ext cx="69339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案例判定參考網站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ttp://www.edu.tw/EDU_WEB/EDU_MGT/MOECC/EDU0688001/tanet/tanet-IPR/94plan/06_02_18.ht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-243000"/>
            <a:ext cx="9144000" cy="7101000"/>
          </a:xfrm>
          <a:prstGeom prst="irregularSeal1">
            <a:avLst/>
          </a:prstGeom>
          <a:solidFill>
            <a:srgbClr val="eeb00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68360" y="3121200"/>
            <a:ext cx="52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99"/>
                </a:solidFill>
                <a:latin typeface="華康中圓體"/>
              </a:rPr>
              <a:t>竊取他人線上遊戲虛擬寶物的行為，觸犯</a:t>
            </a:r>
            <a:r>
              <a:rPr b="1" lang="zh-TW" sz="2400" spc="-1" strike="noStrike">
                <a:solidFill>
                  <a:srgbClr val="ff0000"/>
                </a:solidFill>
                <a:latin typeface="華康中圓體"/>
              </a:rPr>
              <a:t>刑法第三百五十九條之「無故取得他人電磁記錄罪」</a:t>
            </a:r>
            <a:r>
              <a:rPr b="1" lang="zh-TW" sz="2400" spc="-1" strike="noStrike">
                <a:solidFill>
                  <a:srgbClr val="000099"/>
                </a:solidFill>
                <a:latin typeface="華康中圓體"/>
              </a:rPr>
              <a:t>，</a:t>
            </a:r>
            <a:r>
              <a:rPr b="1" lang="zh-TW" sz="2400" spc="-1" strike="noStrike">
                <a:solidFill>
                  <a:srgbClr val="000099"/>
                </a:solidFill>
                <a:latin typeface="華康中圓體"/>
              </a:rPr>
              <a:t>該條規定：「無故取得、刪除或變更他人電腦或其相關設備之電磁紀錄，致生損害於公眾或他人者，處五年以下有期徒刑、拘役或科或併科二十萬元以下罰金。」</a:t>
            </a:r>
            <a:r>
              <a:rPr b="0" lang="zh-TW" sz="2400" spc="-1" strike="noStrike">
                <a:solidFill>
                  <a:srgbClr val="ff0000"/>
                </a:solidFill>
                <a:latin typeface="華康中圓體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cover dir="r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99"/>
                </a:solidFill>
                <a:latin typeface="華康中特圓體"/>
                <a:ea typeface="華康中特圓體"/>
              </a:rPr>
              <a:t>伍、系統安全</a:t>
            </a:r>
            <a:endParaRPr b="1" i="1" lang="en-US" sz="5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4826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華康中圓體"/>
              </a:rPr>
              <a:t>惡意程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華康中圓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華康中圓體"/>
              </a:rPr>
              <a:t>病毒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華康中圓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華康中圓體"/>
              </a:rPr>
              <a:t>網路蠕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華康中圓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華康中圓體"/>
              </a:rPr>
              <a:t>木馬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華康中圓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華康中圓體"/>
              </a:rPr>
              <a:t>間諜程式（</a:t>
            </a:r>
            <a:r>
              <a:rPr b="0" lang="en-US" sz="2800" spc="-1" strike="noStrike">
                <a:solidFill>
                  <a:srgbClr val="ffffff"/>
                </a:solidFill>
                <a:latin typeface="華康中圓體"/>
              </a:rPr>
              <a:t>Spyware</a:t>
            </a:r>
            <a:r>
              <a:rPr b="0" lang="zh-TW" sz="2800" spc="-1" strike="noStrike">
                <a:solidFill>
                  <a:srgbClr val="ffffff"/>
                </a:solidFill>
                <a:latin typeface="華康中圓體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華康中圓體"/>
              </a:rPr>
              <a:t>駭客入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華康中圓體"/>
              </a:rPr>
              <a:t>網路釣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248520" y="3962520"/>
            <a:ext cx="2381040" cy="23065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5715000" y="1219320"/>
            <a:ext cx="2476440" cy="2609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18920" y="836640"/>
            <a:ext cx="6264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ffff99"/>
                </a:solidFill>
                <a:latin typeface="標楷體"/>
              </a:rPr>
              <a:t>駭客入侵流程之流程圖</a:t>
            </a: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22080" y="2349360"/>
            <a:ext cx="7464600" cy="3200400"/>
            <a:chOff x="622080" y="2349360"/>
            <a:chExt cx="7464600" cy="3200400"/>
          </a:xfrm>
        </p:grpSpPr>
        <p:sp>
          <p:nvSpPr>
            <p:cNvPr id="169" name=""/>
            <p:cNvSpPr/>
            <p:nvPr/>
          </p:nvSpPr>
          <p:spPr>
            <a:xfrm>
              <a:off x="963720" y="2349360"/>
              <a:ext cx="799920" cy="312444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484360" y="2349360"/>
              <a:ext cx="879480" cy="312444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84560" y="2349360"/>
              <a:ext cx="881280" cy="312444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686560" y="2349360"/>
              <a:ext cx="799920" cy="32004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844640" y="3492360"/>
              <a:ext cx="479520" cy="7621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eeb00b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444840" y="3492360"/>
              <a:ext cx="479520" cy="8384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eeb00b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2080" y="3500280"/>
              <a:ext cx="103356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eaeaea"/>
                  </a:solidFill>
                  <a:latin typeface="Times New Roman"/>
                </a:rPr>
                <a:t>勘查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789360" y="2637000"/>
              <a:ext cx="1033560" cy="266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eaeaea"/>
                  </a:solidFill>
                  <a:latin typeface="Times New Roman"/>
                </a:rPr>
                <a:t>入侵或破壞系統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631600" y="3500280"/>
              <a:ext cx="60696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eaeaea"/>
                  </a:solidFill>
                  <a:latin typeface="Times New Roman"/>
                </a:rPr>
                <a:t>掃描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373720" y="3213000"/>
              <a:ext cx="10335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eaeaea"/>
                  </a:solidFill>
                  <a:latin typeface="Times New Roman"/>
                </a:rPr>
                <a:t>維持存取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286760" y="2349360"/>
              <a:ext cx="799920" cy="32004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958080" y="2781360"/>
              <a:ext cx="1033560" cy="267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eaeaea"/>
                  </a:solidFill>
                  <a:latin typeface="Times New Roman"/>
                </a:rPr>
                <a:t>湮滅入侵記錄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47040" y="3340080"/>
              <a:ext cx="479160" cy="10666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eeb00b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26040" y="3416400"/>
              <a:ext cx="479520" cy="9144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eeb00b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p:transition spd="med"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33240" y="1160640"/>
            <a:ext cx="1336680" cy="801360"/>
          </a:xfrm>
          <a:prstGeom prst="rect">
            <a:avLst/>
          </a:pr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33240" y="5772240"/>
            <a:ext cx="1336680" cy="80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33240" y="3967200"/>
            <a:ext cx="1336680" cy="80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308400" y="357120"/>
            <a:ext cx="3209760" cy="401760"/>
          </a:xfrm>
          <a:prstGeom prst="rect">
            <a:avLst/>
          </a:pr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308400" y="958680"/>
            <a:ext cx="3209760" cy="401760"/>
          </a:xfrm>
          <a:prstGeom prst="rect">
            <a:avLst/>
          </a:pr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308400" y="1560600"/>
            <a:ext cx="3209760" cy="401400"/>
          </a:xfrm>
          <a:prstGeom prst="rect">
            <a:avLst/>
          </a:pr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08400" y="2162160"/>
            <a:ext cx="3209760" cy="401760"/>
          </a:xfrm>
          <a:prstGeom prst="rect">
            <a:avLst/>
          </a:pr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308400" y="3097080"/>
            <a:ext cx="3209760" cy="401760"/>
          </a:xfrm>
          <a:prstGeom prst="rect">
            <a:avLst/>
          </a:pr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308400" y="3767040"/>
            <a:ext cx="3209760" cy="400320"/>
          </a:xfrm>
          <a:prstGeom prst="rect">
            <a:avLst/>
          </a:pr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08400" y="4435560"/>
            <a:ext cx="3209760" cy="401400"/>
          </a:xfrm>
          <a:prstGeom prst="rect">
            <a:avLst/>
          </a:pr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08400" y="5103720"/>
            <a:ext cx="3209760" cy="401760"/>
          </a:xfrm>
          <a:prstGeom prst="rect">
            <a:avLst/>
          </a:pr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308400" y="5972040"/>
            <a:ext cx="3209760" cy="401760"/>
          </a:xfrm>
          <a:prstGeom prst="rect">
            <a:avLst/>
          </a:pr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23920" y="1293840"/>
            <a:ext cx="641520" cy="533520"/>
          </a:xfrm>
          <a:custGeom>
            <a:avLst/>
            <a:gdLst/>
            <a:ahLst/>
            <a:rect l="l" t="t" r="r" b="b"/>
            <a:pathLst>
              <a:path w="404" h="336">
                <a:moveTo>
                  <a:pt x="404" y="168"/>
                </a:moveTo>
                <a:lnTo>
                  <a:pt x="202" y="0"/>
                </a:lnTo>
                <a:lnTo>
                  <a:pt x="236" y="101"/>
                </a:lnTo>
                <a:lnTo>
                  <a:pt x="0" y="33"/>
                </a:lnTo>
                <a:lnTo>
                  <a:pt x="68" y="168"/>
                </a:lnTo>
                <a:lnTo>
                  <a:pt x="0" y="303"/>
                </a:lnTo>
                <a:lnTo>
                  <a:pt x="236" y="236"/>
                </a:lnTo>
                <a:lnTo>
                  <a:pt x="202" y="336"/>
                </a:lnTo>
                <a:lnTo>
                  <a:pt x="404" y="16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633240" y="333360"/>
            <a:ext cx="8558640" cy="2336040"/>
            <a:chOff x="633240" y="333360"/>
            <a:chExt cx="8558640" cy="2336040"/>
          </a:xfrm>
        </p:grpSpPr>
        <p:sp>
          <p:nvSpPr>
            <p:cNvPr id="197" name=""/>
            <p:cNvSpPr/>
            <p:nvPr/>
          </p:nvSpPr>
          <p:spPr>
            <a:xfrm>
              <a:off x="6736680" y="333360"/>
              <a:ext cx="200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Arial"/>
                  <a:ea typeface="標楷體"/>
                </a:rPr>
                <a:t>ping, whois…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806520" y="981000"/>
              <a:ext cx="170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Arial"/>
                  <a:ea typeface="標楷體"/>
                </a:rPr>
                <a:t>IP spoofing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08240" y="1600200"/>
              <a:ext cx="248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Arial"/>
                  <a:ea typeface="標楷體"/>
                </a:rPr>
                <a:t>Nmap, Nessus…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707160" y="220968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Arial"/>
                  <a:ea typeface="標楷體"/>
                </a:rPr>
                <a:t>sniffer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33240" y="1160640"/>
              <a:ext cx="1336680" cy="80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031760" y="144792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ff0000"/>
                  </a:solidFill>
                  <a:latin typeface="新細明體"/>
                  <a:ea typeface="新細明體"/>
                </a:rPr>
                <a:t>準備階段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308400" y="357120"/>
              <a:ext cx="3209760" cy="40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645080" y="44604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ff0000"/>
                  </a:solidFill>
                  <a:latin typeface="新細明體"/>
                  <a:ea typeface="新細明體"/>
                </a:rPr>
                <a:t>網路勘查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308400" y="958680"/>
              <a:ext cx="3209760" cy="40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478400" y="1038240"/>
              <a:ext cx="862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ff0000"/>
                  </a:solidFill>
                  <a:latin typeface="新細明體"/>
                  <a:ea typeface="新細明體"/>
                </a:rPr>
                <a:t>偽裝 </a:t>
              </a:r>
              <a:r>
                <a:rPr b="0" lang="en-US" sz="1800" spc="-1" strike="noStrike">
                  <a:solidFill>
                    <a:srgbClr val="ff0000"/>
                  </a:solidFill>
                  <a:latin typeface="新細明體"/>
                  <a:ea typeface="新細明體"/>
                </a:rPr>
                <a:t>/ </a:t>
              </a:r>
              <a:r>
                <a:rPr b="0" lang="zh-TW" sz="1800" spc="-1" strike="noStrike">
                  <a:solidFill>
                    <a:srgbClr val="ff0000"/>
                  </a:solidFill>
                  <a:latin typeface="新細明體"/>
                  <a:ea typeface="新細明體"/>
                </a:rPr>
                <a:t>欺騙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308400" y="1560600"/>
              <a:ext cx="3209760" cy="40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780440" y="16444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ff0000"/>
                  </a:solidFill>
                  <a:latin typeface="新細明體"/>
                  <a:ea typeface="新細明體"/>
                </a:rPr>
                <a:t>掃描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308400" y="2162160"/>
              <a:ext cx="3209760" cy="40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780440" y="22525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ff0000"/>
                  </a:solidFill>
                  <a:latin typeface="新細明體"/>
                  <a:ea typeface="新細明體"/>
                </a:rPr>
                <a:t>竊聽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800440" y="384120"/>
              <a:ext cx="241200" cy="2139840"/>
            </a:xfrm>
            <a:custGeom>
              <a:avLst/>
              <a:gdLst/>
              <a:ahLst/>
              <a:rect l="l" t="t" r="r" b="b"/>
              <a:pathLst>
                <a:path w="152" h="1348">
                  <a:moveTo>
                    <a:pt x="152" y="0"/>
                  </a:moveTo>
                  <a:lnTo>
                    <a:pt x="0" y="0"/>
                  </a:lnTo>
                  <a:lnTo>
                    <a:pt x="0" y="1348"/>
                  </a:lnTo>
                  <a:lnTo>
                    <a:pt x="152" y="1348"/>
                  </a:ln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023920" y="1293840"/>
              <a:ext cx="641520" cy="533520"/>
            </a:xfrm>
            <a:custGeom>
              <a:avLst/>
              <a:gdLst/>
              <a:ahLst/>
              <a:rect l="l" t="t" r="r" b="b"/>
              <a:pathLst>
                <a:path w="404" h="336">
                  <a:moveTo>
                    <a:pt x="404" y="168"/>
                  </a:moveTo>
                  <a:lnTo>
                    <a:pt x="202" y="0"/>
                  </a:lnTo>
                  <a:lnTo>
                    <a:pt x="236" y="101"/>
                  </a:lnTo>
                  <a:lnTo>
                    <a:pt x="0" y="33"/>
                  </a:lnTo>
                  <a:lnTo>
                    <a:pt x="68" y="168"/>
                  </a:lnTo>
                  <a:lnTo>
                    <a:pt x="0" y="303"/>
                  </a:lnTo>
                  <a:lnTo>
                    <a:pt x="236" y="236"/>
                  </a:lnTo>
                  <a:lnTo>
                    <a:pt x="202" y="336"/>
                  </a:lnTo>
                  <a:lnTo>
                    <a:pt x="404" y="168"/>
                  </a:ln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2023920" y="4127400"/>
            <a:ext cx="641520" cy="534960"/>
          </a:xfrm>
          <a:custGeom>
            <a:avLst/>
            <a:gdLst/>
            <a:ahLst/>
            <a:rect l="l" t="t" r="r" b="b"/>
            <a:pathLst>
              <a:path w="404" h="337">
                <a:moveTo>
                  <a:pt x="404" y="169"/>
                </a:moveTo>
                <a:lnTo>
                  <a:pt x="202" y="0"/>
                </a:lnTo>
                <a:lnTo>
                  <a:pt x="236" y="101"/>
                </a:lnTo>
                <a:lnTo>
                  <a:pt x="0" y="34"/>
                </a:lnTo>
                <a:lnTo>
                  <a:pt x="68" y="169"/>
                </a:lnTo>
                <a:lnTo>
                  <a:pt x="0" y="303"/>
                </a:lnTo>
                <a:lnTo>
                  <a:pt x="236" y="236"/>
                </a:lnTo>
                <a:lnTo>
                  <a:pt x="202" y="337"/>
                </a:lnTo>
                <a:lnTo>
                  <a:pt x="404" y="1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633240" y="3097080"/>
            <a:ext cx="8999640" cy="2468160"/>
            <a:chOff x="633240" y="3097080"/>
            <a:chExt cx="8999640" cy="2468160"/>
          </a:xfrm>
        </p:grpSpPr>
        <p:sp>
          <p:nvSpPr>
            <p:cNvPr id="215" name=""/>
            <p:cNvSpPr/>
            <p:nvPr/>
          </p:nvSpPr>
          <p:spPr>
            <a:xfrm>
              <a:off x="6708240" y="3124080"/>
              <a:ext cx="236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Arial"/>
                  <a:ea typeface="標楷體"/>
                </a:rPr>
                <a:t>Passwd crack…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708960" y="380988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Arial"/>
                  <a:ea typeface="標楷體"/>
                </a:rPr>
                <a:t>exploit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07520" y="4419720"/>
              <a:ext cx="292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Arial"/>
                  <a:ea typeface="標楷體"/>
                </a:rPr>
                <a:t>Read, write, copy,…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708600" y="5105520"/>
              <a:ext cx="18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Arial"/>
                  <a:ea typeface="標楷體"/>
                </a:rPr>
                <a:t>Trojan horse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33240" y="3967200"/>
              <a:ext cx="1336680" cy="80172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964800" y="4114800"/>
              <a:ext cx="68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ff0000"/>
                  </a:solidFill>
                  <a:latin typeface="新細明體"/>
                  <a:ea typeface="新細明體"/>
                </a:rPr>
                <a:t>攻擊及攻佔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098720" y="4383000"/>
              <a:ext cx="412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ff0000"/>
                  </a:solidFill>
                  <a:latin typeface="新細明體"/>
                  <a:ea typeface="新細明體"/>
                </a:rPr>
                <a:t>後階段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308400" y="3097080"/>
              <a:ext cx="3209760" cy="40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511160" y="318276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ff0000"/>
                  </a:solidFill>
                  <a:latin typeface="新細明體"/>
                  <a:ea typeface="新細明體"/>
                </a:rPr>
                <a:t>通行密碼破解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308400" y="3767040"/>
              <a:ext cx="3209760" cy="40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45080" y="384660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ff0000"/>
                  </a:solidFill>
                  <a:latin typeface="新細明體"/>
                  <a:ea typeface="新細明體"/>
                </a:rPr>
                <a:t>漏洞利用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308400" y="4435560"/>
              <a:ext cx="3209760" cy="40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645080" y="452448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ff0000"/>
                  </a:solidFill>
                  <a:latin typeface="新細明體"/>
                  <a:ea typeface="新細明體"/>
                </a:rPr>
                <a:t>主機存取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308400" y="5103720"/>
              <a:ext cx="3209760" cy="40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645080" y="518796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ff0000"/>
                  </a:solidFill>
                  <a:latin typeface="新細明體"/>
                  <a:ea typeface="新細明體"/>
                </a:rPr>
                <a:t>安置後門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800440" y="3111480"/>
              <a:ext cx="241200" cy="2352600"/>
            </a:xfrm>
            <a:custGeom>
              <a:avLst/>
              <a:gdLst/>
              <a:ahLst/>
              <a:rect l="l" t="t" r="r" b="b"/>
              <a:pathLst>
                <a:path w="152" h="1482">
                  <a:moveTo>
                    <a:pt x="152" y="0"/>
                  </a:moveTo>
                  <a:lnTo>
                    <a:pt x="0" y="0"/>
                  </a:lnTo>
                  <a:lnTo>
                    <a:pt x="0" y="1482"/>
                  </a:lnTo>
                  <a:lnTo>
                    <a:pt x="152" y="1482"/>
                  </a:ln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023920" y="4127400"/>
              <a:ext cx="641520" cy="534960"/>
            </a:xfrm>
            <a:custGeom>
              <a:avLst/>
              <a:gdLst/>
              <a:ahLst/>
              <a:rect l="l" t="t" r="r" b="b"/>
              <a:pathLst>
                <a:path w="404" h="337">
                  <a:moveTo>
                    <a:pt x="404" y="169"/>
                  </a:moveTo>
                  <a:lnTo>
                    <a:pt x="202" y="0"/>
                  </a:lnTo>
                  <a:lnTo>
                    <a:pt x="236" y="101"/>
                  </a:lnTo>
                  <a:lnTo>
                    <a:pt x="0" y="34"/>
                  </a:lnTo>
                  <a:lnTo>
                    <a:pt x="68" y="169"/>
                  </a:lnTo>
                  <a:lnTo>
                    <a:pt x="0" y="303"/>
                  </a:lnTo>
                  <a:lnTo>
                    <a:pt x="236" y="236"/>
                  </a:lnTo>
                  <a:lnTo>
                    <a:pt x="202" y="337"/>
                  </a:lnTo>
                  <a:lnTo>
                    <a:pt x="404" y="169"/>
                  </a:ln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023920" y="5946840"/>
            <a:ext cx="641520" cy="533160"/>
          </a:xfrm>
          <a:custGeom>
            <a:avLst/>
            <a:gdLst/>
            <a:ahLst/>
            <a:rect l="l" t="t" r="r" b="b"/>
            <a:pathLst>
              <a:path w="404" h="336">
                <a:moveTo>
                  <a:pt x="404" y="168"/>
                </a:moveTo>
                <a:lnTo>
                  <a:pt x="202" y="0"/>
                </a:lnTo>
                <a:lnTo>
                  <a:pt x="236" y="101"/>
                </a:lnTo>
                <a:lnTo>
                  <a:pt x="0" y="33"/>
                </a:lnTo>
                <a:lnTo>
                  <a:pt x="68" y="168"/>
                </a:lnTo>
                <a:lnTo>
                  <a:pt x="0" y="303"/>
                </a:lnTo>
                <a:lnTo>
                  <a:pt x="236" y="236"/>
                </a:lnTo>
                <a:lnTo>
                  <a:pt x="202" y="336"/>
                </a:lnTo>
                <a:lnTo>
                  <a:pt x="404" y="16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633240" y="5772240"/>
            <a:ext cx="7067160" cy="803160"/>
            <a:chOff x="633240" y="5772240"/>
            <a:chExt cx="7067160" cy="803160"/>
          </a:xfrm>
        </p:grpSpPr>
        <p:sp>
          <p:nvSpPr>
            <p:cNvPr id="234" name=""/>
            <p:cNvSpPr/>
            <p:nvPr/>
          </p:nvSpPr>
          <p:spPr>
            <a:xfrm>
              <a:off x="6708960" y="594360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Arial"/>
                  <a:ea typeface="標楷體"/>
                </a:rPr>
                <a:t>DDoS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33240" y="5772240"/>
              <a:ext cx="1336680" cy="80316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031760" y="606276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ff0000"/>
                  </a:solidFill>
                  <a:latin typeface="新細明體"/>
                  <a:ea typeface="新細明體"/>
                </a:rPr>
                <a:t>毀滅階段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08400" y="5972040"/>
              <a:ext cx="3209760" cy="40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645080" y="606276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ff0000"/>
                  </a:solidFill>
                  <a:latin typeface="新細明體"/>
                  <a:ea typeface="新細明體"/>
                </a:rPr>
                <a:t>阻絕服務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800440" y="5838840"/>
              <a:ext cx="241200" cy="695160"/>
            </a:xfrm>
            <a:custGeom>
              <a:avLst/>
              <a:gdLst/>
              <a:ahLst/>
              <a:rect l="l" t="t" r="r" b="b"/>
              <a:pathLst>
                <a:path w="152" h="438">
                  <a:moveTo>
                    <a:pt x="152" y="0"/>
                  </a:moveTo>
                  <a:lnTo>
                    <a:pt x="0" y="0"/>
                  </a:lnTo>
                  <a:lnTo>
                    <a:pt x="0" y="438"/>
                  </a:lnTo>
                  <a:lnTo>
                    <a:pt x="152" y="438"/>
                  </a:ln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023920" y="5946840"/>
              <a:ext cx="641520" cy="533160"/>
            </a:xfrm>
            <a:custGeom>
              <a:avLst/>
              <a:gdLst/>
              <a:ahLst/>
              <a:rect l="l" t="t" r="r" b="b"/>
              <a:pathLst>
                <a:path w="404" h="336">
                  <a:moveTo>
                    <a:pt x="404" y="168"/>
                  </a:moveTo>
                  <a:lnTo>
                    <a:pt x="202" y="0"/>
                  </a:lnTo>
                  <a:lnTo>
                    <a:pt x="236" y="101"/>
                  </a:lnTo>
                  <a:lnTo>
                    <a:pt x="0" y="33"/>
                  </a:lnTo>
                  <a:lnTo>
                    <a:pt x="68" y="168"/>
                  </a:lnTo>
                  <a:lnTo>
                    <a:pt x="0" y="303"/>
                  </a:lnTo>
                  <a:lnTo>
                    <a:pt x="236" y="236"/>
                  </a:lnTo>
                  <a:lnTo>
                    <a:pt x="202" y="336"/>
                  </a:lnTo>
                  <a:lnTo>
                    <a:pt x="404" y="168"/>
                  </a:ln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p:transition spd="med">
    <p:cover dir="r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ffff99"/>
                </a:solidFill>
                <a:latin typeface="華康中圓體"/>
              </a:rPr>
              <a:t>「網路素養」的內涵 </a:t>
            </a: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華康中圓體"/>
              </a:rPr>
              <a:t>認知層面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華康中圓體"/>
              </a:rPr>
              <a:t>瞭解資訊網路在人類生活的應用和影響，並具備使用資訊網路的基礎概念和知識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華康中圓體"/>
              </a:rPr>
              <a:t>技能層面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華康中圓體"/>
              </a:rPr>
              <a:t>熟悉資訊網路的各種操作技巧，並能進行資訊的搜尋、處理、分析、傳輸、發表等作業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華康中圓體"/>
              </a:rPr>
              <a:t>情意層面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華康中圓體"/>
              </a:rPr>
              <a:t>培養運用資訊網路的良好習慣，並能遵守相關的倫理、法律規範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ffff99"/>
                </a:solidFill>
                <a:latin typeface="標楷體"/>
              </a:rPr>
              <a:t>未來入侵及攻擊趨勢</a:t>
            </a: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標楷體"/>
              </a:rPr>
              <a:t>駭客攻擊目標轉向</a:t>
            </a:r>
            <a:r>
              <a:rPr b="0" lang="zh-TW" sz="3200" spc="-1" strike="noStrike">
                <a:solidFill>
                  <a:srgbClr val="ff33cc"/>
                </a:solidFill>
                <a:latin typeface="標楷體"/>
              </a:rPr>
              <a:t>企業內部的個人電腦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</a:rPr>
              <a:t>及利用</a:t>
            </a:r>
            <a:r>
              <a:rPr b="0" lang="zh-TW" sz="3200" spc="-1" strike="noStrike">
                <a:solidFill>
                  <a:srgbClr val="ff33cc"/>
                </a:solidFill>
                <a:latin typeface="標楷體"/>
              </a:rPr>
              <a:t>寬頻上網的個人電腦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</a:rPr>
              <a:t>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標楷體"/>
              </a:rPr>
              <a:t>具破壞力的工具被公開，且取得容易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標楷體"/>
              </a:rPr>
              <a:t>攻擊後，</a:t>
            </a:r>
            <a:r>
              <a:rPr b="0" lang="zh-TW" sz="3200" spc="-1" strike="noStrike">
                <a:solidFill>
                  <a:srgbClr val="ff33cc"/>
                </a:solidFill>
                <a:latin typeface="標楷體"/>
              </a:rPr>
              <a:t>資訊被竊聽與敏感性資料外洩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</a:rPr>
              <a:t>、被有心人士利用而造成損失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標楷體"/>
              </a:rPr>
              <a:t>無線網路與網路基礎建設成為下一波攻擊標的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ffff99"/>
                </a:solidFill>
                <a:latin typeface="Verdana"/>
              </a:rPr>
              <a:t>網路釣魚</a:t>
            </a:r>
            <a:r>
              <a:rPr b="1" i="1" lang="en-US" sz="4400" spc="-1" strike="noStrike">
                <a:solidFill>
                  <a:srgbClr val="ffff99"/>
                </a:solidFill>
                <a:latin typeface="Verdana"/>
              </a:rPr>
              <a:t>(Phishing)</a:t>
            </a: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hishing</a:t>
            </a:r>
            <a:r>
              <a:rPr b="0" lang="zh-TW" sz="3200" spc="-1" strike="noStrike">
                <a:solidFill>
                  <a:srgbClr val="ffffff"/>
                </a:solidFill>
                <a:latin typeface="Verdana"/>
              </a:rPr>
              <a:t>這個新名詞，是將英文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shing(</a:t>
            </a:r>
            <a:r>
              <a:rPr b="0" lang="zh-TW" sz="3200" spc="-1" strike="noStrike">
                <a:solidFill>
                  <a:srgbClr val="ffffff"/>
                </a:solidFill>
                <a:latin typeface="Verdana"/>
              </a:rPr>
              <a:t>釣魚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zh-TW" sz="3200" spc="-1" strike="noStrike">
                <a:solidFill>
                  <a:srgbClr val="ffffff"/>
                </a:solidFill>
                <a:latin typeface="Verdana"/>
              </a:rPr>
              <a:t>的第一個英文字母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"f"</a:t>
            </a:r>
            <a:r>
              <a:rPr b="0" lang="zh-TW" sz="3200" spc="-1" strike="noStrike">
                <a:solidFill>
                  <a:srgbClr val="ffffff"/>
                </a:solidFill>
                <a:latin typeface="Verdana"/>
              </a:rPr>
              <a:t>，改變為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"ph"</a:t>
            </a:r>
            <a:r>
              <a:rPr b="0" lang="zh-TW" sz="3200" spc="-1" strike="noStrike">
                <a:solidFill>
                  <a:srgbClr val="ffffff"/>
                </a:solidFill>
                <a:latin typeface="Verdana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Verdana"/>
              </a:rPr>
              <a:t>姜太公釣魚，願者上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另一種詐騙形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用來取得帳號密碼等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rcRect l="0" t="0" r="0" b="2707"/>
          <a:stretch/>
        </p:blipFill>
        <p:spPr>
          <a:xfrm>
            <a:off x="3801960" y="4648320"/>
            <a:ext cx="5342040" cy="20574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ffff99"/>
                </a:solidFill>
                <a:latin typeface="Times New Roman"/>
              </a:rPr>
              <a:t>網路釣魚</a:t>
            </a:r>
            <a:r>
              <a:rPr b="1" i="1" lang="en-US" sz="4400" spc="-1" strike="noStrike">
                <a:solidFill>
                  <a:srgbClr val="ffff99"/>
                </a:solidFill>
                <a:latin typeface="Times New Roman"/>
              </a:rPr>
              <a:t>(Phishing)</a:t>
            </a: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16000" y="1197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透過社交工程（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cial engineering 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主要利用「偽造電子郵件與網站」為誘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4168800" cy="46818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4643280" y="2565360"/>
            <a:ext cx="4176720" cy="4292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480" y="685800"/>
            <a:ext cx="6400800" cy="380880"/>
          </a:xfrm>
          <a:prstGeom prst="rect">
            <a:avLst/>
          </a:prstGeom>
          <a:noFill/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515920" y="76320"/>
            <a:ext cx="258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33cc"/>
                </a:solidFill>
                <a:latin typeface="Times New Roman"/>
                <a:ea typeface="標楷體"/>
              </a:rPr>
              <a:t>原本的 </a:t>
            </a:r>
            <a:r>
              <a:rPr b="1" lang="en-US" sz="2400" spc="-1" strike="noStrike">
                <a:solidFill>
                  <a:srgbClr val="ff33cc"/>
                </a:solidFill>
                <a:latin typeface="Times New Roman"/>
                <a:ea typeface="標楷體"/>
              </a:rPr>
              <a:t>US Bank</a:t>
            </a:r>
            <a:r>
              <a:rPr b="1" lang="zh-TW" sz="2400" spc="-1" strike="noStrike">
                <a:solidFill>
                  <a:srgbClr val="ff33cc"/>
                </a:solidFill>
                <a:latin typeface="Times New Roman"/>
                <a:ea typeface="標楷體"/>
              </a:rPr>
              <a:t>網頁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2895480" y="304920"/>
            <a:ext cx="3886200" cy="380880"/>
          </a:xfrm>
          <a:prstGeom prst="rect">
            <a:avLst/>
          </a:prstGeom>
          <a:noFill/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733920" y="380880"/>
            <a:ext cx="380880" cy="2286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306240" y="5867280"/>
            <a:ext cx="258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33cc"/>
                </a:solidFill>
                <a:latin typeface="Times New Roman"/>
                <a:ea typeface="標楷體"/>
              </a:rPr>
              <a:t>偽造的 </a:t>
            </a:r>
            <a:r>
              <a:rPr b="1" lang="en-US" sz="2400" spc="-1" strike="noStrike">
                <a:solidFill>
                  <a:srgbClr val="ff33cc"/>
                </a:solidFill>
                <a:latin typeface="Times New Roman"/>
                <a:ea typeface="標楷體"/>
              </a:rPr>
              <a:t>US Bank</a:t>
            </a:r>
            <a:r>
              <a:rPr b="1" lang="zh-TW" sz="2400" spc="-1" strike="noStrike">
                <a:solidFill>
                  <a:srgbClr val="ff33cc"/>
                </a:solidFill>
                <a:latin typeface="Times New Roman"/>
                <a:ea typeface="標楷體"/>
              </a:rPr>
              <a:t>網頁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ffff99"/>
                </a:solidFill>
                <a:latin typeface="Times New Roman"/>
              </a:rPr>
              <a:t>使用資訊科技的安全防護</a:t>
            </a: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78120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你的密碼安全嗎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你的密碼是什麼？生日？三圍？手機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什麼密碼才安全呢？如何設定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你的密碼設定的很好，問題是被人家知道了，怎麼會讓人家知道呢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選擇安全的密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-8 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個大小寫字母及符號混合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對自己有意義容易記得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如：小明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&gt;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利用鍵盤上注音輸入法對應自己名字的字元當密碼：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ul3au/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ffff99"/>
                </a:solidFill>
                <a:latin typeface="Times New Roman"/>
              </a:rPr>
              <a:t>使用資訊科技的安全防護</a:t>
            </a: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個人隱私資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網路上註冊資料隨便填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不要將班級通訊錄放到網路上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保護個人隱私資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加解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注意個人隱私資訊外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828800" y="5334120"/>
            <a:ext cx="5353200" cy="1114200"/>
          </a:xfrm>
          <a:prstGeom prst="rect">
            <a:avLst/>
          </a:prstGeom>
          <a:ln w="9360">
            <a:solidFill>
              <a:srgbClr val="ff33cc"/>
            </a:solidFill>
            <a:miter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1828800" y="5334120"/>
            <a:ext cx="5353200" cy="1162080"/>
          </a:xfrm>
          <a:prstGeom prst="rect">
            <a:avLst/>
          </a:prstGeom>
          <a:ln w="9360">
            <a:solidFill>
              <a:srgbClr val="ff33cc"/>
            </a:solidFill>
            <a:miter/>
          </a:ln>
        </p:spPr>
      </p:pic>
    </p:spTree>
  </p:cSld>
  <p:transition spd="med">
    <p:cover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ffff99"/>
                </a:solidFill>
                <a:latin typeface="Times New Roman"/>
              </a:rPr>
              <a:t>隨手做保密</a:t>
            </a: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電腦須登入帳號密碼後方能使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審慎使用網路芳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建議改用其他傳遞方式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非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SN, Skyp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我的文件－加密內容，保護資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機敏檔案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doc, xls, ppt)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加密存檔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使用壓縮程式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7zip)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或專屬程式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PGP)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加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離機自動螢幕保護上鎖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ffff99"/>
                </a:solidFill>
                <a:latin typeface="Times New Roman"/>
              </a:rPr>
              <a:t>其他個人安全防護的小秘訣</a:t>
            </a: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763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定期</a:t>
            </a:r>
            <a:r>
              <a:rPr b="0" lang="zh-TW" sz="3200" spc="-1" strike="noStrike">
                <a:solidFill>
                  <a:srgbClr val="ff33cc"/>
                </a:solidFill>
                <a:latin typeface="Times New Roman"/>
              </a:rPr>
              <a:t>備份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重要資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33cc"/>
                </a:solidFill>
                <a:latin typeface="Times New Roman"/>
              </a:rPr>
              <a:t>加密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機敏資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定期進行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ndows/Office 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Upd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安裝</a:t>
            </a:r>
            <a:r>
              <a:rPr b="0" lang="zh-TW" sz="3200" spc="-1" strike="noStrike">
                <a:solidFill>
                  <a:srgbClr val="ff33cc"/>
                </a:solidFill>
                <a:latin typeface="Times New Roman"/>
              </a:rPr>
              <a:t>防火牆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（定期更新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安裝</a:t>
            </a:r>
            <a:r>
              <a:rPr b="0" lang="zh-TW" sz="3200" spc="-1" strike="noStrike">
                <a:solidFill>
                  <a:srgbClr val="ff33cc"/>
                </a:solidFill>
                <a:latin typeface="Times New Roman"/>
              </a:rPr>
              <a:t>防毒軟體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（定期更新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安裝</a:t>
            </a:r>
            <a:r>
              <a:rPr b="0" lang="zh-TW" sz="3200" spc="-1" strike="noStrike">
                <a:solidFill>
                  <a:srgbClr val="ff33cc"/>
                </a:solidFill>
                <a:latin typeface="Times New Roman"/>
              </a:rPr>
              <a:t>反間諜軟體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（定期更新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勿點選來路不明之電子郵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勿安裝來路不明軟體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138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600" spc="-1" strike="noStrike">
                <a:solidFill>
                  <a:srgbClr val="ffff99"/>
                </a:solidFill>
                <a:latin typeface="Times New Roman"/>
              </a:rPr>
              <a:t>教育部中小學教師</a:t>
            </a:r>
            <a:br>
              <a:rPr sz="6600"/>
            </a:br>
            <a:r>
              <a:rPr b="0" lang="zh-TW" sz="6600" spc="-1" strike="noStrike">
                <a:solidFill>
                  <a:srgbClr val="ffff99"/>
                </a:solidFill>
                <a:latin typeface="Times New Roman"/>
              </a:rPr>
              <a:t>網路素養與認知網 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ffff99"/>
                </a:solidFill>
                <a:latin typeface="Times New Roman"/>
              </a:rPr>
              <a:t>http://eteacher.edu.tw/ </a:t>
            </a:r>
            <a:endParaRPr b="1" i="1" lang="en-US" sz="66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105264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華康中特圓體"/>
                <a:ea typeface="華康中特圓體"/>
              </a:rPr>
              <a:t>貳、資訊科技與網際網路你運用來做什麼？</a:t>
            </a:r>
            <a:endParaRPr b="1" i="1" lang="en-US" sz="5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7280" y="2708280"/>
            <a:ext cx="288000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66"/>
                </a:solidFill>
                <a:latin typeface="Times New Roman"/>
              </a:rPr>
              <a:t>收發公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66"/>
                </a:solidFill>
                <a:latin typeface="Times New Roman"/>
              </a:rPr>
              <a:t>辦公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66"/>
                </a:solidFill>
                <a:latin typeface="Times New Roman"/>
              </a:rPr>
              <a:t>看股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66"/>
                </a:solidFill>
                <a:latin typeface="Times New Roman"/>
              </a:rPr>
              <a:t>打電動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………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140000" y="2707920"/>
            <a:ext cx="395892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華康中圓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66"/>
                </a:solidFill>
                <a:latin typeface="華康中圓體"/>
              </a:rPr>
              <a:t>收發</a:t>
            </a:r>
            <a:r>
              <a:rPr b="1" lang="en-US" sz="3200" spc="-1" strike="noStrike">
                <a:solidFill>
                  <a:srgbClr val="ffff66"/>
                </a:solidFill>
                <a:latin typeface="華康中圓體"/>
              </a:rPr>
              <a:t>ema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華康中圓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66"/>
                </a:solidFill>
                <a:latin typeface="華康中圓體"/>
              </a:rPr>
              <a:t>看看新聞網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華康中圓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66"/>
                </a:solidFill>
                <a:latin typeface="華康中圓體"/>
              </a:rPr>
              <a:t>查詢資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華康中圓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66"/>
                </a:solidFill>
                <a:latin typeface="華康中圓體"/>
              </a:rPr>
              <a:t>交朋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華康中圓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華康中圓體"/>
              </a:rPr>
              <a:t>………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rcRect l="9399" t="18231" r="11230" b="27647"/>
          <a:stretch/>
        </p:blipFill>
        <p:spPr>
          <a:xfrm>
            <a:off x="0" y="260280"/>
            <a:ext cx="9217080" cy="6408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609120" y="12189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Times New Roman"/>
              </a:rPr>
              <a:t>何謂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eer to Peer (P2P)</a:t>
            </a:r>
            <a:r>
              <a:rPr b="0" lang="zh-TW" sz="3600" spc="-1" strike="noStrike">
                <a:solidFill>
                  <a:srgbClr val="ffffff"/>
                </a:solidFill>
                <a:latin typeface="Times New Roman"/>
              </a:rPr>
              <a:t>？</a:t>
            </a:r>
            <a:br>
              <a:rPr sz="3600"/>
            </a:b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　這是一種利用網際網路作為主要媒介的新型態網路技術；根據在網路中各個使用者的資源，利用演算法，動態調整需求標的，而不是把需求都聚集在固定的幾台伺服器上。</a:t>
            </a:r>
            <a:br>
              <a:rPr sz="3200"/>
            </a:br>
            <a:br>
              <a:rPr sz="3200"/>
            </a:b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　另，所有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2P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軟體一定會有上傳跟下載流量，絕不可能只有下載量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609120" y="12189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Times New Roman"/>
              </a:rPr>
              <a:t>何謂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it-Torrent(BT)</a:t>
            </a:r>
            <a:r>
              <a:rPr b="0" lang="zh-TW" sz="3600" spc="-1" strike="noStrike">
                <a:solidFill>
                  <a:srgbClr val="ffffff"/>
                </a:solidFill>
                <a:latin typeface="Times New Roman"/>
              </a:rPr>
              <a:t>？</a:t>
            </a:r>
            <a:br>
              <a:rPr sz="3600"/>
            </a:br>
            <a:br>
              <a:rPr sz="3600"/>
            </a:b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　基本上，這可以算是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2P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協定上的進化版本，比起其他點對點的協議，這個協定特點簡單的說就是：下載的人越多，速度越快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609120" y="12189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it-Torrent</a:t>
            </a:r>
            <a:r>
              <a:rPr b="0" lang="zh-TW" sz="3600" spc="-1" strike="noStrike">
                <a:solidFill>
                  <a:srgbClr val="ffffff"/>
                </a:solidFill>
                <a:latin typeface="Times New Roman"/>
              </a:rPr>
              <a:t>簡介：</a:t>
            </a:r>
            <a:br>
              <a:rPr sz="3600"/>
            </a:br>
            <a:br>
              <a:rPr sz="3600"/>
            </a:b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　原由美籍工程師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am Cohen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所撰寫；有不少的高速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2P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軟體，參考他的設計架構修改而來。</a:t>
            </a:r>
            <a:br>
              <a:rPr sz="3200"/>
            </a:b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　現今，因開發者及後續衍生的版本眾多，所以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T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現在變成一個代名詞，而不是專指一套軟體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609120" y="12189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ub Box</a:t>
            </a:r>
            <a:r>
              <a:rPr b="0" lang="zh-TW" sz="3600" spc="-1" strike="noStrike">
                <a:solidFill>
                  <a:srgbClr val="ffffff"/>
                </a:solidFill>
                <a:latin typeface="Times New Roman"/>
              </a:rPr>
              <a:t>簡介：</a:t>
            </a:r>
            <a:br>
              <a:rPr sz="3600"/>
            </a:br>
            <a:br>
              <a:rPr sz="3600"/>
            </a:b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　原來是由韓國廠商釋出，每位使用安裝後，系統會在遠端建立一個只存在十天的虛擬空間供上傳，但如果下載人數增多，則可再延長時間，並獲取點數而升級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609120" y="12189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華康魏碑體"/>
              </a:rPr>
              <a:t>FOXY</a:t>
            </a:r>
            <a:r>
              <a:rPr b="0" lang="zh-TW" sz="3600" spc="-1" strike="noStrike">
                <a:solidFill>
                  <a:srgbClr val="ffffff"/>
                </a:solidFill>
                <a:latin typeface="華康魏碑體"/>
              </a:rPr>
              <a:t>簡介：</a:t>
            </a:r>
            <a:br>
              <a:rPr sz="3600"/>
            </a:br>
            <a:br>
              <a:rPr sz="3600"/>
            </a:br>
            <a:r>
              <a:rPr b="0" lang="zh-TW" sz="3200" spc="-1" strike="noStrike">
                <a:solidFill>
                  <a:srgbClr val="ffffff"/>
                </a:solidFill>
                <a:latin typeface="華康魏碑體"/>
              </a:rPr>
              <a:t>　原來是由中國大陸廠商釋出，其程式基於</a:t>
            </a:r>
            <a:r>
              <a:rPr b="0" lang="en-US" sz="3600" spc="-1" strike="noStrike">
                <a:solidFill>
                  <a:srgbClr val="ffffff"/>
                </a:solidFill>
                <a:latin typeface="華康魏碑體"/>
              </a:rPr>
              <a:t>Bit-Torrent</a:t>
            </a:r>
            <a:r>
              <a:rPr b="0" lang="en-US" sz="3200" spc="-1" strike="noStrike">
                <a:solidFill>
                  <a:srgbClr val="ffffff"/>
                </a:solidFill>
                <a:latin typeface="華康魏碑體"/>
              </a:rPr>
              <a:t> </a:t>
            </a:r>
            <a:r>
              <a:rPr b="0" lang="zh-TW" sz="3200" spc="-1" strike="noStrike">
                <a:solidFill>
                  <a:srgbClr val="ffffff"/>
                </a:solidFill>
                <a:latin typeface="華康魏碑體"/>
              </a:rPr>
              <a:t>架構設計；但因下載及上傳皆無法限速，容易把頻寬吃光，導致其它使用者無法上網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>
            <a:hlinkClick r:id="rId1"/>
          </p:cNvPr>
          <p:cNvSpPr/>
          <p:nvPr/>
        </p:nvSpPr>
        <p:spPr>
          <a:xfrm>
            <a:off x="971640" y="5084640"/>
            <a:ext cx="2663640" cy="11239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小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OXY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筆錄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個資看光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609120" y="12189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Times New Roman"/>
              </a:rPr>
              <a:t>使用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2P</a:t>
            </a:r>
            <a:r>
              <a:rPr b="0" lang="zh-TW" sz="3600" spc="-1" strike="noStrike">
                <a:solidFill>
                  <a:srgbClr val="ffffff"/>
                </a:solidFill>
                <a:latin typeface="Times New Roman"/>
              </a:rPr>
              <a:t>軟體違法嗎？</a:t>
            </a:r>
            <a:br>
              <a:rPr sz="3600"/>
            </a:br>
            <a:br>
              <a:rPr sz="3600"/>
            </a:b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　主要是直接或間接造成第三者之損害；而當使用者在上傳或下載時，則有可能觸犯 “非法重製 ”、”非法散布”、”並未於合理使用範圍內 ” 等，極為容易吃上官司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250920" y="1125360"/>
            <a:ext cx="854064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Times New Roman"/>
              </a:rPr>
              <a:t>使用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2P</a:t>
            </a:r>
            <a:r>
              <a:rPr b="0" lang="zh-TW" sz="3600" spc="-1" strike="noStrike">
                <a:solidFill>
                  <a:srgbClr val="ffffff"/>
                </a:solidFill>
                <a:latin typeface="Times New Roman"/>
              </a:rPr>
              <a:t>違法嗎？</a:t>
            </a:r>
            <a:br>
              <a:rPr sz="3600"/>
            </a:br>
            <a:br>
              <a:rPr sz="2800"/>
            </a:b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　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使用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2P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，就是為了要上、下傳的軟體；而因此，衍生了許多問題。</a:t>
            </a:r>
            <a:br>
              <a:rPr sz="3200"/>
            </a:br>
            <a:br>
              <a:rPr sz="3200"/>
            </a:b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　為有效嚇止非法軟體傳播，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003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年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月，宣佈”公開傳輸權”、”散布權 ”、”暫時性重製”等科技條文，一般相信，這是針對網路上目無王法的盜版使用者，不啻是當頭棒喝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609120" y="1218960"/>
            <a:ext cx="80773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Times New Roman"/>
              </a:rPr>
              <a:t>正確的網路使用觀念</a:t>
            </a:r>
            <a:br>
              <a:rPr sz="3600"/>
            </a:br>
            <a:br>
              <a:rPr sz="3600"/>
            </a:b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一、不下載／上傳／使用來源不明的資料或是商業套裝軟體。 </a:t>
            </a:r>
            <a:br>
              <a:rPr sz="3200"/>
            </a:b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二、非必要不使用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2P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軟體；若使用，請搭配限速軟體（如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tLimiter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）。</a:t>
            </a:r>
            <a:br>
              <a:rPr sz="3200"/>
            </a:b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三、常檢查是否有需要更新漏洞修補程式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279" name="" descr="Link to Questions page"/>
          <p:cNvPicPr/>
          <p:nvPr/>
        </p:nvPicPr>
        <p:blipFill>
          <a:blip r:embed="rId1"/>
          <a:stretch/>
        </p:blipFill>
        <p:spPr>
          <a:xfrm>
            <a:off x="826920" y="2133720"/>
            <a:ext cx="4419720" cy="40100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5940360" y="1989000"/>
            <a:ext cx="3203640" cy="1008360"/>
          </a:xfrm>
          <a:prstGeom prst="ellipse">
            <a:avLst/>
          </a:prstGeom>
          <a:gradFill rotWithShape="0">
            <a:gsLst>
              <a:gs pos="0">
                <a:srgbClr val="ff33cc"/>
              </a:gs>
              <a:gs pos="100000">
                <a:srgbClr val="75175e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影片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電腦病毒趴趴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940360" y="3213000"/>
            <a:ext cx="3203640" cy="1008000"/>
          </a:xfrm>
          <a:prstGeom prst="ellipse">
            <a:avLst/>
          </a:prstGeom>
          <a:gradFill rotWithShape="0">
            <a:gsLst>
              <a:gs pos="0">
                <a:srgbClr val="ff33cc"/>
              </a:gs>
              <a:gs pos="100000">
                <a:srgbClr val="75175e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影片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電腦當機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940360" y="4365720"/>
            <a:ext cx="3203640" cy="1008000"/>
          </a:xfrm>
          <a:prstGeom prst="ellipse">
            <a:avLst/>
          </a:prstGeom>
          <a:gradFill rotWithShape="0">
            <a:gsLst>
              <a:gs pos="0">
                <a:srgbClr val="ff33cc"/>
              </a:gs>
              <a:gs pos="100000">
                <a:srgbClr val="75175e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影片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電腦與打字機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940360" y="5661000"/>
            <a:ext cx="3203640" cy="1008000"/>
          </a:xfrm>
          <a:prstGeom prst="ellipse">
            <a:avLst/>
          </a:prstGeom>
          <a:gradFill rotWithShape="0">
            <a:gsLst>
              <a:gs pos="0">
                <a:srgbClr val="ff33cc"/>
              </a:gs>
              <a:gs pos="100000">
                <a:srgbClr val="75175e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網路如虎口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行人當心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109960" y="76212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eaeaea"/>
                </a:solidFill>
                <a:latin typeface="Times New Roman"/>
                <a:ea typeface="標楷體"/>
              </a:rPr>
              <a:t>利用網際網路繳費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7810560" cy="50292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55280" y="256536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200" spc="-1" strike="noStrike">
                <a:solidFill>
                  <a:srgbClr val="ffff99"/>
                </a:solidFill>
                <a:latin typeface="Times New Roman"/>
              </a:rPr>
              <a:t>謝謝指教</a:t>
            </a:r>
            <a:endParaRPr b="1" i="1" lang="en-US" sz="14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000" spc="-1" strike="noStrike">
                <a:solidFill>
                  <a:srgbClr val="ffff99"/>
                </a:solidFill>
                <a:latin typeface="Times New Roman"/>
              </a:rPr>
              <a:t>網路</a:t>
            </a:r>
            <a:r>
              <a:rPr b="1" i="1" lang="en-US" sz="4000" spc="-1" strike="noStrike">
                <a:solidFill>
                  <a:srgbClr val="ffff99"/>
                </a:solidFill>
                <a:latin typeface="Times New Roman"/>
              </a:rPr>
              <a:t>ATM</a:t>
            </a:r>
            <a:r>
              <a:rPr b="1" i="1" lang="zh-TW" sz="4000" spc="-1" strike="noStrike">
                <a:solidFill>
                  <a:srgbClr val="ffff99"/>
                </a:solidFill>
                <a:latin typeface="Times New Roman"/>
              </a:rPr>
              <a:t>：繳費轉帳或查詢餘額</a:t>
            </a:r>
            <a:endParaRPr b="1" i="1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15200" cy="4619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772400" cy="4724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328920" y="59040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aeaea"/>
                </a:solidFill>
                <a:latin typeface="Times New Roman"/>
                <a:ea typeface="標楷體"/>
              </a:rPr>
              <a:t>唐先生尋找的蟠龍花瓶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cover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510200" y="666720"/>
            <a:ext cx="219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aeaea"/>
                </a:solidFill>
                <a:latin typeface="Times New Roman"/>
                <a:ea typeface="標楷體"/>
              </a:rPr>
              <a:t>網路線上遊戲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762760" cy="50292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6320" y="2057400"/>
            <a:ext cx="6248160" cy="45370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ffff99"/>
                </a:solidFill>
                <a:latin typeface="Times New Roman"/>
              </a:rPr>
              <a:t>逛</a:t>
            </a:r>
            <a:r>
              <a:rPr b="1" i="1" lang="en-US" sz="4400" spc="-1" strike="noStrike">
                <a:solidFill>
                  <a:srgbClr val="ffff99"/>
                </a:solidFill>
                <a:latin typeface="Times New Roman"/>
              </a:rPr>
              <a:t>BBS</a:t>
            </a:r>
            <a:r>
              <a:rPr b="1" i="1" lang="zh-TW" sz="4400" spc="-1" strike="noStrike">
                <a:solidFill>
                  <a:srgbClr val="ffff99"/>
                </a:solidFill>
                <a:latin typeface="Times New Roman"/>
              </a:rPr>
              <a:t>、聊天室</a:t>
            </a: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630760" y="1924200"/>
            <a:ext cx="3513240" cy="49338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580000" y="476280"/>
            <a:ext cx="2879640" cy="1008000"/>
          </a:xfrm>
          <a:prstGeom prst="ellipse">
            <a:avLst/>
          </a:prstGeom>
          <a:solidFill>
            <a:srgbClr val="ff33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影片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網路交友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22:48:49Z</dcterms:created>
  <dc:creator>鄭吉紘</dc:creator>
  <dc:description/>
  <dc:language>en-US</dc:language>
  <cp:lastModifiedBy>user</cp:lastModifiedBy>
  <dcterms:modified xsi:type="dcterms:W3CDTF">2008-05-05T00:34:35Z</dcterms:modified>
  <cp:revision>30</cp:revision>
  <dc:subject/>
  <dc:title>啥麼都不驚--更需網路媒體的素養 </dc:title>
</cp:coreProperties>
</file>