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A4B-F400-4CF5-B7A1-524DF053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0A8-7133-488E-8C7B-026EE65C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865-2FA2-4BE9-A332-0EFBA145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ADE-52F3-4672-A812-A9F96D7A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F18B-9473-4BB2-89E8-0BD7D64E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0FA4-4FB1-4F78-AE10-F6428779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6CBA-A0B8-45ED-B00F-AB28FDDB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89A1-48D8-4C1C-A466-AD6C432F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283F-574E-45B5-A297-03A72014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A2EE-1E0C-495A-AB7A-05DD15F2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44F2-E921-445F-A2A8-CC8695E5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864-5DF1-4E90-96FF-818D5D4D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5B01-4E72-4CF1-B852-BE8139DA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A1BF-9779-4BED-BE88-DB95BB47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7A96-52E5-4AA4-B577-BE4B5867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6A10-7F3B-45B0-8660-F057E924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6D62-F3B7-48F4-8EBE-B3850F9D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55609-1B5F-417E-A2C6-6B038FF9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20FFE-5082-4068-9DBE-6B5EE97A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44407-0B89-407A-B592-2BC3621B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AD775-02B2-45F6-9474-6964A460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C324D-053D-46E3-8947-90368693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556-465F-46EF-869D-84B3D587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D737E-08B5-46EC-BB5C-A064E123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52994-B166-448C-8879-B0749209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68E6F-4C77-47CE-8AA0-300F9D3B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7591C-6E12-4E67-A4A7-4C6DED1F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0D063-137E-40E7-8967-22985FCC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698F7-87E4-460B-8E7B-9E700C2B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AF193-862A-40DA-B81B-0078B6F7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AFF2B-2911-4981-B22D-E80FDA45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4BD23-33E5-4096-AD8B-1BC38C75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AF62C-0791-4A0C-805B-60A1DE2A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6752-FB94-4F70-BA5A-98002B9C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6B272-66DE-4BC4-8CF9-AA1C0511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0A618-AEDA-4530-97DF-3150077D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D8531-3E44-43EC-B317-910C3379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3B4DC-02FB-4DAF-9315-B3D00578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3B8D-B1E8-4DDC-A651-DA27ADFB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5B36F-D1B5-4E87-9692-199AED10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99358-78DA-4E33-9DC4-5162F295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E90D6-C85F-4C03-938C-CB009314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8176C-F77C-476A-8B05-41EAB241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49DD8E-0391-431B-AF48-C4F7C809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67D2-47FB-4B99-930E-33455076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73281-D87C-4FA5-8CC2-A5F4BE37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29A5AE-09FA-4C8B-BD3E-5E288D51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4293DA-8A4C-4702-88C1-13B7BC0F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92B964-66FD-4106-94C1-08EDC4EB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FC0B13-B3D7-42C5-B387-FDFA46A0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22FE4-322E-4A6E-B3DA-9A415A09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1145F-B0B1-42DE-9084-A8BB9EF3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E00EA-3BA9-4DE1-A961-791723E8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8CD8BB-AF70-40EE-9850-82ABF790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10007B-3B14-48B8-BBF9-C66FCDBC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73C0-E1FD-4252-A38B-2945A2F5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5A2C3-9CE8-4647-A23E-2B39A773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5593B-E78D-456B-861F-D0FD4554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4D2093-B977-4999-AE99-5D523252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B8EE48-43BC-4027-99B1-75C9EC23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89D5FE-30F6-4961-8CE1-0596F5D1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BD591-9788-4C95-98FF-1C7DB052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AADF47-513F-4295-99B9-64FD8523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FCAD94-96AD-4BF8-A8BF-2833D0C9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C4499-E0BB-4E48-9B12-CB7FAF1C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C037EC-3808-4398-BDB6-7D3DB8B9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1D2-1D6E-4BE3-8151-C88C7907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3D2071-13DA-4154-83FB-BA59C708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5B571-518C-4817-85BD-E01C31A2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58472B-0A06-4AA8-AB9C-DF92B128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5C73CC-9939-4AEB-A656-180ECD57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C8C6F1-C472-4A45-92D5-6B0A2A82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B2FE1-6E67-480D-9172-E3E0A86C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F451D3-7DB7-42E9-A129-BB481120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622DD5-B367-43C5-AAE4-107AB5AE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AC370F-2DF6-405F-8B9E-656CD45D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64D638-A512-4D3A-972A-7FE5F93D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774-A720-4C06-94B4-4EA78EE2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DDDB93-96E4-4516-8F28-9DE9D6DD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1AD54C-22FF-4B1B-8458-CBA6A5C2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3DA211-6571-4901-B3FF-C492B3C4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447EC8-14DB-453A-87EC-82E5A570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09455E-6520-4908-A927-13E69D3F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513-7F08-4FDA-98D4-EA3154DE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線接點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線接點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接點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直線接點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橢圓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6310-8769-4844-B911-95F3D71EF86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線接點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線接點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線接點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線接點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線接點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線接點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橢圓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橢圓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橢圓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橢圓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橢圓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94A6-3A4E-42CA-B600-257BDCC5AA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直線接點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線接點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線接點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線接點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橢圓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A535-0AC1-4C3F-88A1-E0065144C3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線接點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線接點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線接點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線接點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線接點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橢圓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橢圓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橢圓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橢圓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橢圓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線接點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4C52-730D-45AF-8466-115614BB0C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直線接點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線接點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線接點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線接點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橢圓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59E3-572C-4349-A42B-D3ACC7D4C5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直線接點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線接點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線接點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線接點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線接點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橢圓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51A1-22B4-4399-BE16-5E5749A87C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直線接點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橢圓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線接點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線接點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線接點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線接點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8794-02DB-4490-9B7C-B2742F6426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is.ntct.edu.tw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tie.ntct.edu.tw/" TargetMode="External"/><Relationship Id="rId2" Type="http://schemas.openxmlformats.org/officeDocument/2006/relationships/hyperlink" Target="http://cissnet.edu.tw/safely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627280" y="1341360"/>
            <a:ext cx="5470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575f6d"/>
                </a:solidFill>
                <a:latin typeface="微軟正黑體"/>
                <a:ea typeface="微軟正黑體"/>
              </a:rPr>
              <a:t>工作報告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634920" y="3645000"/>
            <a:ext cx="403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575f6d"/>
                </a:solidFill>
                <a:latin typeface="Century Schoolbook"/>
              </a:rPr>
              <a:t>南投縣教育網路中心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2010.10.21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75f6d"/>
                </a:solidFill>
                <a:latin typeface="Century Schoolbook"/>
              </a:rPr>
              <a:t>日月潭教師會館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投影片編號版面配置區 5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5F7B-20C2-44F9-9AC2-3CCA6F37EDC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3b435b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年度網路費已由教育處編列補助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,596,00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元整，補助名單及金額，請確認是否正確？並請１２月填妥領據送交林淑娟小姐，以利撥款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3b435b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南投縣資訊交流網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標楷體"/>
                <a:ea typeface="標楷體"/>
                <a:hlinkClick r:id="rId1"/>
              </a:rPr>
              <a:t>http://mis.ntct.edu.tw/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提供網管老師線上文件及討論板發問及解答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3b435b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本年度徵求１０所學校，由縣網中心輔導建置資安政策並提供網站弱點掃描服務。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申請表附於後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3b435b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DNS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SERVER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之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IPV6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正反解及學校網站的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IPV6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設定，明彰老師將協助學校修改建置，請與明彰老師連繫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　　學校網站請設定為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001:288: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Ｃ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XX::X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與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IPV4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同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比較容易記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3b435b"/>
              </a:buClr>
              <a:buSzPct val="7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3b435b"/>
              </a:buClr>
              <a:buSzPct val="7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投影片編號版面配置區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33B9-E6BA-438D-9B5C-71209BEDFC4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3b435b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目前中華電信提供免費網路電話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gateway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並提供網外節費，結合學校原有總機系統，可將各分機升級為網路電話，不改變使用習慣，總機號碼請設定為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908XXX00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（別家廠商亦可）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如不安裝節費系統，區網提供１０部語音匣道器給各申請安裝）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3b435b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班級網路電話請保持上線，如有新增話機請至</a:t>
            </a:r>
            <a:r>
              <a:rPr b="0" lang="en-US" sz="2400" spc="-1" strike="noStrike" u="sng">
                <a:solidFill>
                  <a:srgbClr val="d2611c"/>
                </a:solidFill>
                <a:uFillTx/>
                <a:latin typeface="標楷體"/>
                <a:ea typeface="標楷體"/>
                <a:hlinkClick r:id="rId1"/>
              </a:rPr>
              <a:t>http://ntie.ntct.edu.tw/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　南投縣網路電話查號台做註冊，取得帳密設定於話機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3b435b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「資安防護學園連線闖關好禮多」</a:t>
            </a:r>
            <a:r>
              <a:rPr b="0" lang="en-US" sz="2400" spc="-1" strike="noStrike" u="sng">
                <a:solidFill>
                  <a:srgbClr val="d2611c"/>
                </a:solidFill>
                <a:uFillTx/>
                <a:latin typeface="標楷體"/>
                <a:ea typeface="標楷體"/>
                <a:hlinkClick r:id="rId2"/>
              </a:rPr>
              <a:t>http://cissnet.edu.tw/safely/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活動時間：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99.10.2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1.30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本縣需達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00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人次，請電腦課時讓學生參加（老師也有獎品）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3b435b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教育部年終考評公務填報說明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3b435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投影片編號版面配置區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B024-D267-4503-A031-07073FC0C84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575f6d"/>
                </a:solidFill>
                <a:latin typeface="Century Schoolbook"/>
              </a:rPr>
              <a:t>九、教育機構資通安全通報應變網站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(HTTPS://INFO.CERT.TANET.EDU.TW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entury Schoolbook"/>
              </a:rPr>
              <a:t>http://cert.tanet.edu.tw</a:t>
            </a:r>
            <a:r>
              <a:rPr b="0" lang="zh-TW" sz="2200" spc="-1" strike="noStrike">
                <a:solidFill>
                  <a:srgbClr val="000000"/>
                </a:solidFill>
                <a:latin typeface="Century Schoolbook"/>
              </a:rPr>
              <a:t>　</a:t>
            </a:r>
            <a:r>
              <a:rPr b="0" lang="fr-FR" sz="1500" spc="-1" strike="noStrike">
                <a:solidFill>
                  <a:srgbClr val="ff0000"/>
                </a:solidFill>
                <a:latin typeface="Century Schoolbook"/>
              </a:rPr>
              <a:t>TANet CERT </a:t>
            </a:r>
            <a:r>
              <a:rPr b="0" lang="zh-TW" sz="1500" spc="-1" strike="noStrike">
                <a:solidFill>
                  <a:srgbClr val="ff0000"/>
                </a:solidFill>
                <a:latin typeface="Century Schoolbook"/>
              </a:rPr>
              <a:t>臺灣學術網路危機處理中心</a:t>
            </a:r>
            <a:br>
              <a:rPr sz="1900"/>
            </a:br>
            <a:r>
              <a:rPr b="0" lang="zh-TW" sz="1700" spc="-1" strike="noStrike">
                <a:solidFill>
                  <a:srgbClr val="000000"/>
                </a:solidFill>
                <a:latin typeface="Century Schoolbook"/>
              </a:rPr>
              <a:t>功能：提供各種資安訊息及活動資訊，以下所提的網頁皆可由此網站中前往。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entury Schoolbook"/>
              </a:rPr>
              <a:t>https://info.cert.tanet.edu.tw</a:t>
            </a:r>
            <a:r>
              <a:rPr b="0" lang="zh-TW" sz="1900" spc="-1" strike="noStrike">
                <a:solidFill>
                  <a:srgbClr val="000000"/>
                </a:solidFill>
                <a:latin typeface="Century Schoolbook"/>
              </a:rPr>
              <a:t>　</a:t>
            </a:r>
            <a:r>
              <a:rPr b="0" lang="zh-TW" sz="1900" spc="-1" strike="noStrike">
                <a:solidFill>
                  <a:srgbClr val="ff0000"/>
                </a:solidFill>
                <a:latin typeface="Century Schoolbook"/>
              </a:rPr>
              <a:t>教育機構資安通報平臺</a:t>
            </a:r>
            <a:br>
              <a:rPr sz="1900"/>
            </a:br>
            <a:r>
              <a:rPr b="0" lang="zh-TW" sz="1900" spc="-1" strike="noStrike">
                <a:solidFill>
                  <a:srgbClr val="000000"/>
                </a:solidFill>
                <a:latin typeface="Century Schoolbook"/>
              </a:rPr>
              <a:t>功能：接獲資安事件簡訊通報後，請由此進行事件通報以及處理。</a:t>
            </a:r>
            <a:br>
              <a:rPr sz="1900"/>
            </a:br>
            <a:r>
              <a:rPr b="0" lang="zh-TW" sz="1900" spc="-1" strike="noStrike">
                <a:solidFill>
                  <a:srgbClr val="000000"/>
                </a:solidFill>
                <a:latin typeface="Century Schoolbook"/>
              </a:rPr>
              <a:t>　　　本信件所提供的帳號及密碼為此網頁登入時使用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Century Schoolbook"/>
              </a:rPr>
              <a:t>　　　　　注意事項：請各學校單位進入系統後先行修改密碼，並更新單位聯絡人資訊。 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entury Schoolbook"/>
              </a:rPr>
              <a:t>https://elearning.aisac.tanet.edu.tw </a:t>
            </a:r>
            <a:r>
              <a:rPr b="0" lang="zh-TW" sz="1900" spc="-1" strike="noStrike">
                <a:solidFill>
                  <a:srgbClr val="000000"/>
                </a:solidFill>
                <a:latin typeface="Century Schoolbook"/>
              </a:rPr>
              <a:t>　</a:t>
            </a:r>
            <a:r>
              <a:rPr b="0" lang="zh-TW" sz="1600" spc="-1" strike="noStrike">
                <a:solidFill>
                  <a:srgbClr val="ff0000"/>
                </a:solidFill>
                <a:latin typeface="Century Schoolbook"/>
              </a:rPr>
              <a:t>教育機構</a:t>
            </a:r>
            <a:r>
              <a:rPr b="0" lang="fr-FR" sz="1600" spc="-1" strike="noStrike">
                <a:solidFill>
                  <a:srgbClr val="ff0000"/>
                </a:solidFill>
                <a:latin typeface="Century Schoolbook"/>
              </a:rPr>
              <a:t>ISAC</a:t>
            </a:r>
            <a:r>
              <a:rPr b="0" lang="zh-TW" sz="1600" spc="-1" strike="noStrike">
                <a:solidFill>
                  <a:srgbClr val="ff0000"/>
                </a:solidFill>
                <a:latin typeface="Century Schoolbook"/>
              </a:rPr>
              <a:t>資安教育平台 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Century Schoolbook"/>
              </a:rPr>
              <a:t>　　功能：資安通報平台各種流程以及操作步驟說明。請使用”訪客”登入即可觀看相關內容。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entury Schoolbook"/>
              </a:rPr>
              <a:t>https://aisac.tanet.edu.tw</a:t>
            </a:r>
            <a:r>
              <a:rPr b="0" lang="zh-TW" sz="2200" spc="-1" strike="noStrike">
                <a:solidFill>
                  <a:srgbClr val="000000"/>
                </a:solidFill>
                <a:latin typeface="Century Schoolbook"/>
              </a:rPr>
              <a:t>　</a:t>
            </a:r>
            <a:r>
              <a:rPr b="0" lang="zh-TW" sz="2000" spc="-1" strike="noStrike">
                <a:solidFill>
                  <a:srgbClr val="ff0000"/>
                </a:solidFill>
                <a:latin typeface="Century Schoolbook"/>
              </a:rPr>
              <a:t>教育機構資安分享與分析中心</a:t>
            </a:r>
            <a:br>
              <a:rPr sz="2200"/>
            </a:br>
            <a:r>
              <a:rPr b="0" lang="zh-TW" sz="2200" spc="-1" strike="noStrike">
                <a:solidFill>
                  <a:srgbClr val="000000"/>
                </a:solidFill>
                <a:latin typeface="Century Schoolbook"/>
              </a:rPr>
              <a:t>功能：資安通報平台首頁，相關功能會陸續開放提供。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投影片編號版面配置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294D-BA7E-4961-B28C-564240CB8BC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entury Schoolbook"/>
              </a:rPr>
              <a:t>教育機構資安通報平台帳號密碼之處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entury Schoolbook"/>
              </a:rPr>
              <a:t>密碼需每季更新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Century Schoolbook"/>
              </a:rPr>
              <a:t>根據教育部規範，各級資安人員之密碼需每季更新。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Century Schoolbook"/>
              </a:rPr>
              <a:t>教育機構資安通報平台將會主動寄發通知信提醒各級資安人員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請更新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位連絡人資料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Schoolbook"/>
              </a:rPr>
              <a:t>請上網填報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ois</a:t>
            </a:r>
            <a:r>
              <a:rPr b="1" lang="zh-TW" sz="2400" spc="-1" strike="noStrike">
                <a:solidFill>
                  <a:srgbClr val="000000"/>
                </a:solidFill>
                <a:latin typeface="Century Schoolbook"/>
              </a:rPr>
              <a:t>資料（公務填報）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5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至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9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教育部 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99 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度學術機構分組資通安全通報演練，將寄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E-mail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及簡訊至各校資安連絡人，必須於１小時之內完成回報。計畫如附件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entury Schoolbook"/>
              </a:rPr>
              <a:t>個資洩漏事件請謹慎處理。不要將學生個資暴露於網站上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投影片編號版面配置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3DEE-9DC6-4B18-A9AF-F83C42A80B1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6:51:31Z</dcterms:created>
  <dc:creator>ntct</dc:creator>
  <dc:description/>
  <dc:language>en-US</dc:language>
  <cp:lastModifiedBy>dem</cp:lastModifiedBy>
  <dcterms:modified xsi:type="dcterms:W3CDTF">2010-10-15T08:38:02Z</dcterms:modified>
  <cp:revision>37</cp:revision>
  <dc:subject/>
  <dc:title>工作報告</dc:title>
</cp:coreProperties>
</file>